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D61-5450-4384-9BDB-192F1A40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681-C94A-4340-8E8F-72B065C3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768-C629-434C-A980-4DCE8EE3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557-FA8B-404A-89E5-360BCAC4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5179-7D85-4157-8B93-04F643D2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C332-9AB3-41CE-892C-A8FDAC7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B67B-22E7-43A7-AA7F-6544169C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E9A-C0E7-48BC-90BE-3E7C2B7E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D573-E0E1-46FC-94F9-5D24C9B7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9EF-FF9C-4B49-A973-40FA7F82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25D9-0A0E-4A7D-B92B-1BEF1A3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F6F-0466-4B96-BFF6-FECFECDF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C2DB-625A-45F1-923B-07E2FD32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90D-C81C-4C51-850F-95532B9B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74C-C4AA-42FC-A6A7-346C1E26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E73-364A-48DE-A43D-E17BC376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3E82-D858-46C6-96F4-53DE4143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AC9-2289-497C-AF07-6119405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504-3FB3-4E12-B75F-A4127FC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39D-A26E-4330-8706-DE398C0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044-8F03-48FB-9614-C493EF4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BC5-5044-42D8-BC7B-3BB13BE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9CA-354B-47B2-964E-D05F1CE0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AAC-BE06-4A5B-9E2F-6602BB2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87CB-CADD-4425-A2D0-2B96852D10A6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6E83-B6D6-4229-8639-BE8C775BC32B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efan@lieser-online.de" TargetMode="External"/><Relationship Id="rId2" Type="http://schemas.openxmlformats.org/officeDocument/2006/relationships/hyperlink" Target="mailto:stefan@lieser-online.de" TargetMode="External"/><Relationship Id="rId3" Type="http://schemas.openxmlformats.org/officeDocument/2006/relationships/hyperlink" Target="mailto:stefan@lieser-online.de" TargetMode="External"/><Relationship Id="rId4" Type="http://schemas.openxmlformats.org/officeDocument/2006/relationships/hyperlink" Target="mailto:stefan@lieser-online.de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JetBrains ReSharper 2.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40458c"/>
                </a:solidFill>
                <a:latin typeface="Tahoma"/>
              </a:rPr>
              <a:t>Stefan Liese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mail: 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tefan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@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lieser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Web: www.lieser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resharper" descr=""/>
          <p:cNvPicPr/>
          <p:nvPr/>
        </p:nvPicPr>
        <p:blipFill>
          <a:blip r:embed="rId5"/>
          <a:stretch/>
        </p:blipFill>
        <p:spPr>
          <a:xfrm>
            <a:off x="990720" y="914400"/>
            <a:ext cx="2457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Unit Tes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 Run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inzelnen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estFixture Klas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s Projek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r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werden am linken Rand markiert und können von dort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können im Debugger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JetBrains dotTrace Profiler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SP.NE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Alle Features funktionieren auch in „ASP.NET Dateien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MSBuild / NAn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rror highligh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Refact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vigation and 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ror Highlighting und Quick-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dvanced Coding Assis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Refactor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und Such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SP.NE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MSBuild / NAn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weiterbar durch Open API (Plugin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Error Highlighting und Quick-Fix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n-the-fly error chec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ad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using Anweisun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overri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t-En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tus Indic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in Fehlern und 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12 / Shift-F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fehlender </a:t>
            </a:r>
            <a:r>
              <a:rPr b="0" lang="de-DE" sz="2800" spc="-1" strike="noStrike">
                <a:solidFill>
                  <a:srgbClr val="40458c"/>
                </a:solidFill>
                <a:latin typeface="Courier New"/>
              </a:rPr>
              <a:t>using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 Direkt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Live-Search beim Tipp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Klammern für Methodenaufruf werden ergänz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ezeichner werden automatisch gebild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text A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e string.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nvert 'If' to condit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Documentation Look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ameter Inf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Bracket Mat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von Klammern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mplement interface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verride inherited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Delegating me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quals und GetHashC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Live Templa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format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(F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ncapsulate 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Meth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outer sco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another ty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py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Pull members up, Push members dow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hange method signa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Introduce Variable/Parameter/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Interface/Super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class from method parame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ake method stat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static me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ethod to Property/Property to Method(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nvert abstract class to interf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Go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(Ctrl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ile (Ctrl-Shift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claration (Ctrl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declaration (Ctrl-Shift-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ase (Ctrl-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heritor (Ctrl-Alt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age (Ctrl-Alt-F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Highlight Usage (Ctrl-Shift-F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how Class Members (Ctrl-F1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Stack Trace Explorer (Ctrl-Shift-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ck Trace aus der Zwischenabl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Filepositionen über Links navigierb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deal zum Umordnen innerhalb einer Klas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terstützt #reg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Type Hierarch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Lieser</cp:lastModifiedBy>
  <dcterms:modified xsi:type="dcterms:W3CDTF">2006-09-12T13:50:34Z</dcterms:modified>
  <cp:revision>29</cp:revision>
  <dc:subject/>
  <dc:title>PowerPoint Presentation</dc:title>
</cp:coreProperties>
</file>