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865A-D47F-460C-8C9E-85DF4C555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2B62-1BA0-40AE-9451-8E953C691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31D2-8AE5-42F2-B03E-8CED2222A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21FF-52CD-4975-8247-56007FA7C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53C0-D3E8-42E3-8674-F5B146537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65F8-EE9E-4D28-8049-54A3B7F0E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D8B5-183D-4A90-983D-735FA8DEA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D0FA-F998-45AF-B1BA-FDD2FF460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640B-8945-464A-9A06-D07BB14F9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6818-2E39-4AE9-B71E-1F74E06B3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7EBC-A124-4CFB-AF21-97811551A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082A-6E7F-46F3-9E89-DB02582F3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6502-4681-4C0D-B652-003EF66E6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tipp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- / 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9.08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tzen und Entfer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etzen/Entfernen via F9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Via Breakpoint Window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(Alt + F9 oder Menü "Debug\Windows\Breakpoints" 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lick auf den "Punkt" bzw. graue Leiste am linken Rand des Sourceco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npassen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ontextmenü auf "Punkt" in grauer Leist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swählen des Breakpoints im Breakpoint Window + Kontextmen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e Anpass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dingung </a:t>
            </a: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(nicht in Express-Editionen)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erfüllt sei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sich änder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it Cou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= einem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ein vielfaches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&gt;=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s kann ein Filter spezifiziert werden, der beschreibt wann der Breakpoint anschlagen soll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ierfür stehen u.a. virtuelle Variablen für ProcessId, ProcessName, ThreadId, ThreadName und MachineNam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.h. man kann einen Breakpoint einrichten, der nur in einem Thread zuschläg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n den Breakpoint - Eigenschaften "When Breakpoint Is Hit"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olgendes kann eingestellt werden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"Print a message" = Tracepoi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an kann Variablen, Ausdrücke und spezielle virtuelle Variablen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$FUNCTION, $CALLER, $CALLSTACK, Process/Thread-ID's und –Na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uf der Standardausgabe (TRACE) ausgeben lassen ohne den Code zu modifizier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Run a macro"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kann ein bel. Macro ausgeführt wer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Continue execu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wird nicht angehalten, sondern weiter ausgefüh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8-19T06:45:05Z</dcterms:modified>
  <cp:revision>252</cp:revision>
  <dc:subject/>
  <dc:title>Einführung in MS Build</dc:title>
</cp:coreProperties>
</file>