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911D-BE71-421A-86BF-866432327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6995-4581-4E31-9EC9-16574935C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91907-F62F-4EA6-AFC9-4C46B5AF7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0CCD-8011-4FE9-B415-36CBD8F8B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777B-2B45-4E6F-A185-761A1FE72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11DA-0699-4E0D-9008-856F77202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7AF0-4CFE-4537-ADE9-214F6299A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76CE-6E5A-41C1-A61F-874151FB7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B74F-4F5A-4BF0-8E88-F3F21DC5D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A4227-6C07-4AB5-A07B-2013BB0EA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6497-67C9-4660-B9B1-819F857A4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EEC7-5F19-471B-8C1B-20D3D9B5B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A56F-8E8F-4521-A26D-ACED7245C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tact@jens-schaller.de" TargetMode="External"/><Relationship Id="rId2" Type="http://schemas.openxmlformats.org/officeDocument/2006/relationships/hyperlink" Target="http://jens-schaller.de/" TargetMode="External"/><Relationship Id="rId3" Type="http://schemas.openxmlformats.org/officeDocument/2006/relationships/hyperlink" Target="http://jens-schaller.de/blog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odeproject.com/macro/collapseall.as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 Tip: „Collapse all“ Makr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contact@jens-schaller.de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jens-schaller.de/blog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blem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87640" y="292428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Größere Solutions werden im ausgeklappten Zustand schnell unübersichtlich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00" y="1628640"/>
          <a:ext cx="17398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17398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ö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akr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llapseAll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z.B. Ctrl-ä -&gt; Coll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ä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nstal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Macros -&gt; Macros 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eues Modul „CollapseAll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akrotext einkopi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ools -&gt; Options -&gt; Key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tkeys bele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ownload: </a:t>
            </a:r>
            <a:r>
              <a:rPr b="1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odeproject.com/macro/collapseall.as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Jens Schaller</cp:lastModifiedBy>
  <dcterms:modified xsi:type="dcterms:W3CDTF">2006-07-17T20:33:20Z</dcterms:modified>
  <cp:revision>221</cp:revision>
  <dc:subject/>
  <dc:title>Slide 1</dc:title>
</cp:coreProperties>
</file>