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2CC-FEB6-45EC-93AC-14D2B55F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C41-06FA-459B-BF3D-1220CAF9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C03-8E07-4EEC-8BE0-AFAD2FBC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76E-52BC-4AD6-AD92-E6765A23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88D-6F86-4F5E-BDCC-AA994159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D05-5E64-4852-A23C-E30B94F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C7F-2575-44B2-B659-C6A85F0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59D-C6BA-4648-AF14-13010096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C42-A625-4258-BE7E-1817654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538-ABCB-4690-83A0-D4811A5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9F7-554F-4900-AED6-FB7AE63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756-5EB8-4C0A-B2A5-00E7F43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696-1C1B-4BD7-BDE9-01B7C12C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APPLICATION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84"/>
                </a:solidFill>
                <a:latin typeface="Square721 BdEx BT"/>
              </a:rPr>
              <a:t>MORITZ PFENN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984"/>
                </a:solidFill>
                <a:latin typeface="Square721 Ex BT"/>
              </a:rPr>
              <a:t>m.pfennig@futureproofed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MINI-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41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ebuggen von Anwendungen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debuggen?  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UserScoped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962520" cy="17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344000" cy="32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isherig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ehrfacher Einsatz innerhalb einer 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apselung &amp; eigene Wrapper-K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IPersistComponent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Load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ave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gene 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teil durch Erweit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, -medium &amp; einiges meh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 per Attri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Custom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3440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utzerdefiniert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PropertyGrid als gute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AUSBL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69628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3200400" cy="12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Anforder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nforderungen a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icherheitsrelevante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nwendung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enutzer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.NET 1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640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tellungen speichern mit .NET 1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gi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genentwicke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Management Application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649680"/>
            <a:ext cx="6408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ynam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ögliche Ty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ad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arsing, merging,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rogrammier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in aller K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nf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Typisi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Flex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unter .NET 2.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Weitere grundlegend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rchitektur ermöglicht klare Tr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Persistenzmecha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S 2005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chränkungen der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sual Studio Add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icrosoft Office Add-Ins &amp; Projekte (V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trols, gehostet im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ung sicherheitsrelevant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8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swertung zur Lauf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gabe: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Häufig verwendeten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faultSetting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Brow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ispla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valid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er Ereigni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S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Property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ancelEventA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4:11:52Z</dcterms:created>
  <dc:creator>Moritz Pfennig</dc:creator>
  <dc:description/>
  <dc:language>en-US</dc:language>
  <cp:lastModifiedBy>mo</cp:lastModifiedBy>
  <dcterms:modified xsi:type="dcterms:W3CDTF">2006-07-19T15:51:43Z</dcterms:modified>
  <cp:revision>78</cp:revision>
  <dc:subject/>
  <dc:title>Folie 1</dc:title>
</cp:coreProperties>
</file>