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92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588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5940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3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3"/>
          </p:nvPr>
        </p:nvSpPr>
        <p:spPr>
          <a:xfrm>
            <a:off x="0" y="8685360"/>
            <a:ext cx="295920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3A1F29-B93F-4497-A70D-5BCA897F45F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5BEF4-5D95-496E-A247-BF46C5003A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590040"/>
            <a:ext cx="82170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82170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60240"/>
            <a:ext cx="82170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856E9-C9AE-427C-9768-E5CC4E5451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590040"/>
            <a:ext cx="82170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40096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7400" y="1628280"/>
            <a:ext cx="40096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60240"/>
            <a:ext cx="40096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7400" y="4260240"/>
            <a:ext cx="40096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34ABA-4BCE-4C71-BDF4-2FC267F670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000" y="590040"/>
            <a:ext cx="82170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26456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5320" y="1628280"/>
            <a:ext cx="26456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3440" y="1628280"/>
            <a:ext cx="26456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60240"/>
            <a:ext cx="26456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5320" y="4260240"/>
            <a:ext cx="26456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3440" y="4260240"/>
            <a:ext cx="26456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013BF-19AA-427B-A2D1-26B6F0E8A6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90040"/>
            <a:ext cx="82170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1628280"/>
            <a:ext cx="821700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590040"/>
            <a:ext cx="82170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82170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590040"/>
            <a:ext cx="82170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400968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7400" y="1628280"/>
            <a:ext cx="400968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590040"/>
            <a:ext cx="82170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000" y="590040"/>
            <a:ext cx="82170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590040"/>
            <a:ext cx="82170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40096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7400" y="1628280"/>
            <a:ext cx="400968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4260240"/>
            <a:ext cx="40096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590040"/>
            <a:ext cx="82170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628280"/>
            <a:ext cx="821700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65A11-E457-45B9-BCAA-227D704FD7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590040"/>
            <a:ext cx="82170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400968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7400" y="1628280"/>
            <a:ext cx="40096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7400" y="4260240"/>
            <a:ext cx="40096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590040"/>
            <a:ext cx="82170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40096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7400" y="1628280"/>
            <a:ext cx="40096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4260240"/>
            <a:ext cx="82170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590040"/>
            <a:ext cx="82170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82170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840" y="4260240"/>
            <a:ext cx="82170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590040"/>
            <a:ext cx="82170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40096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7400" y="1628280"/>
            <a:ext cx="40096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4260240"/>
            <a:ext cx="40096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7400" y="4260240"/>
            <a:ext cx="40096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000" y="590040"/>
            <a:ext cx="82170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26456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5320" y="1628280"/>
            <a:ext cx="26456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13440" y="1628280"/>
            <a:ext cx="26456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6840" y="4260240"/>
            <a:ext cx="26456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5320" y="4260240"/>
            <a:ext cx="26456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13440" y="4260240"/>
            <a:ext cx="26456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590040"/>
            <a:ext cx="82170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82170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EB1EA-AC31-4C1C-BB2A-F95C5542B7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590040"/>
            <a:ext cx="82170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400968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7400" y="1628280"/>
            <a:ext cx="400968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26758-6BC7-4F9B-A736-889D85BD06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590040"/>
            <a:ext cx="82170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D6C82-4941-4B0C-A8D6-710CD0434D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000" y="590040"/>
            <a:ext cx="82170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A5EBD-C344-4975-9EBA-34CE09BF2E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590040"/>
            <a:ext cx="82170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40096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400" y="1628280"/>
            <a:ext cx="400968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60240"/>
            <a:ext cx="40096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2FD23-A989-42FE-B13D-6A4F44FC5C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590040"/>
            <a:ext cx="82170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400968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400" y="1628280"/>
            <a:ext cx="40096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7400" y="4260240"/>
            <a:ext cx="40096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FE014-64DC-47B6-B89C-C6DC597EE7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590040"/>
            <a:ext cx="82170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40096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7400" y="1628280"/>
            <a:ext cx="40096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60240"/>
            <a:ext cx="82170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437BB-EB34-4B2B-90DA-1C59A098DB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6770" r="16622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6840" y="1628280"/>
            <a:ext cx="82170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2360" indent="-252360">
              <a:lnSpc>
                <a:spcPct val="108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8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52360" indent="-257040">
              <a:lnSpc>
                <a:spcPct val="108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55600">
              <a:lnSpc>
                <a:spcPct val="108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66760">
              <a:lnSpc>
                <a:spcPct val="108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6676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6676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000" y="590040"/>
            <a:ext cx="82170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03640" y="6237000"/>
            <a:ext cx="212076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07AE18-7D39-4B61-B1DE-104D71FD18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6770" r="16622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8360" y="2852640"/>
            <a:ext cx="822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2214360"/>
            <a:ext cx="87012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17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-252360">
              <a:lnSpc>
                <a:spcPct val="108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8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52360" indent="-257040">
              <a:lnSpc>
                <a:spcPct val="108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55600">
              <a:lnSpc>
                <a:spcPct val="108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66760">
              <a:lnSpc>
                <a:spcPct val="108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6676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6676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8920" y="2168280"/>
            <a:ext cx="8713800" cy="11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69200"/>
                </a:solidFill>
                <a:latin typeface="Verdana"/>
              </a:rPr>
              <a:t>Attributed Prototyped Class Factory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646080"/>
            <a:ext cx="64008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31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16.05.2006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31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Miroslaw Dobrzanski-Neuman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951520"/>
            <a:ext cx="3564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09560"/>
                <a:tab algn="l" pos="1254240"/>
                <a:tab algn="l" pos="1887480"/>
                <a:tab algn="l" pos="2521080"/>
                <a:tab algn="l" pos="3154320"/>
                <a:tab algn="l" pos="3787920"/>
                <a:tab algn="l" pos="4421160"/>
                <a:tab algn="l" pos="5054760"/>
                <a:tab algn="l" pos="5688000"/>
                <a:tab algn="l" pos="6321600"/>
                <a:tab algn="l" pos="6954840"/>
                <a:tab algn="l" pos="7588080"/>
                <a:tab algn="l" pos="8229600"/>
                <a:tab algn="l" pos="8854920"/>
                <a:tab algn="l" pos="9488520"/>
                <a:tab algn="l" pos="10121760"/>
                <a:tab algn="l" pos="10755360"/>
                <a:tab algn="l" pos="10779120"/>
                <a:tab algn="l" pos="10780560"/>
                <a:tab algn="l" pos="1078236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EMail: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iroslaw@faneu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09560"/>
                <a:tab algn="l" pos="1254240"/>
                <a:tab algn="l" pos="1887480"/>
                <a:tab algn="l" pos="2521080"/>
                <a:tab algn="l" pos="3154320"/>
                <a:tab algn="l" pos="3787920"/>
                <a:tab algn="l" pos="4421160"/>
                <a:tab algn="l" pos="5054760"/>
                <a:tab algn="l" pos="5688000"/>
                <a:tab algn="l" pos="6321600"/>
                <a:tab algn="l" pos="6954840"/>
                <a:tab algn="l" pos="7588080"/>
                <a:tab algn="l" pos="8229600"/>
                <a:tab algn="l" pos="8854920"/>
                <a:tab algn="l" pos="9488520"/>
                <a:tab algn="l" pos="10121760"/>
                <a:tab algn="l" pos="10755360"/>
                <a:tab algn="l" pos="10779120"/>
                <a:tab algn="l" pos="10780560"/>
                <a:tab algn="l" pos="1078236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Web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www.faneu.de/mirosla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624960"/>
            <a:ext cx="822960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Attributed Prototyped Class Factory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-252360">
              <a:lnSpc>
                <a:spcPct val="101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actory Attribut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4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nnt das Produk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4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ialisierung sehr billig, umson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4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fzählung sehr einfa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4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zialisierung erlaub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4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halten programmierb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000" y="609480"/>
            <a:ext cx="822492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Attributed Prototyped Class Factory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3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-252360">
              <a:lnSpc>
                <a:spcPct val="101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tract Factor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4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r Factory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4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Überprüfung des Produkt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539640" y="3886200"/>
            <a:ext cx="3600720" cy="20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abstra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ctionFactoryAttrib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tionFactoryAttribute 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Typ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i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t ==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nul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thr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rgumentNullExcep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"t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i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!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typeo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.IsAssignableFrom (t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thr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rgumentExcep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"t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abstra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reate 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54560" y="5157720"/>
            <a:ext cx="3240000" cy="525600"/>
          </a:xfrm>
          <a:prstGeom prst="borderCallout1">
            <a:avLst>
              <a:gd name="adj1" fmla="val 18750"/>
              <a:gd name="adj2" fmla="val -8333"/>
              <a:gd name="adj3" fmla="val 99791"/>
              <a:gd name="adj4" fmla="val -60259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t eher eine „Factory Method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256360" y="4165560"/>
            <a:ext cx="3240000" cy="720720"/>
          </a:xfrm>
          <a:prstGeom prst="borderCallout1">
            <a:avLst>
              <a:gd name="adj1" fmla="val 18750"/>
              <a:gd name="adj2" fmla="val -8333"/>
              <a:gd name="adj3" fmla="val 142277"/>
              <a:gd name="adj4" fmla="val -38060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r Produkte des Typen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256360" y="2851200"/>
            <a:ext cx="3240000" cy="752400"/>
          </a:xfrm>
          <a:prstGeom prst="borderCallout1">
            <a:avLst>
              <a:gd name="adj1" fmla="val 18750"/>
              <a:gd name="adj2" fmla="val -8333"/>
              <a:gd name="adj3" fmla="val 154995"/>
              <a:gd name="adj4" fmla="val -44435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 im Sinne abstrakte Kla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000" y="609480"/>
            <a:ext cx="822492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Attributed Prototyped Class Factory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3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-252360">
              <a:lnSpc>
                <a:spcPct val="101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onkrete Fabrik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4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ametrisiert mit Produktty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360360" y="3875040"/>
            <a:ext cx="4933800" cy="25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ttributeUsa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ttributeTarge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Assembly, AllowMultiple=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tru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StdActionFactoryAttribu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ctionFactoryAttrib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riv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readon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ConstructorInf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_c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tdActionFactoryAttribute 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Typ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ba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ci = t.GetConstructor (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Typ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] { }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i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_ci ==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nul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thr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rgumentExcep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"t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overr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reate 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_ci.Invoke (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nul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70360" y="1979640"/>
            <a:ext cx="3689280" cy="539640"/>
          </a:xfrm>
          <a:prstGeom prst="borderCallout1">
            <a:avLst>
              <a:gd name="adj1" fmla="val 18750"/>
              <a:gd name="adj2" fmla="val -8333"/>
              <a:gd name="adj3" fmla="val 366421"/>
              <a:gd name="adj4" fmla="val -17069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kannt auf Ebene der Assemb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130720" y="2700360"/>
            <a:ext cx="3510000" cy="720720"/>
          </a:xfrm>
          <a:prstGeom prst="borderCallout1">
            <a:avLst>
              <a:gd name="adj1" fmla="val 18750"/>
              <a:gd name="adj2" fmla="val -8333"/>
              <a:gd name="adj3" fmla="val 174861"/>
              <a:gd name="adj4" fmla="val -23074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hrere Instanzen für verschiedene Produkte erlau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130720" y="4140360"/>
            <a:ext cx="3510000" cy="720720"/>
          </a:xfrm>
          <a:prstGeom prst="borderCallout1">
            <a:avLst>
              <a:gd name="adj1" fmla="val 18750"/>
              <a:gd name="adj2" fmla="val -8333"/>
              <a:gd name="adj3" fmla="val 130481"/>
              <a:gd name="adj4" fmla="val -39865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 aufzurufende 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!!Parameter darf nicht null s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091120" y="5753160"/>
            <a:ext cx="3510000" cy="539640"/>
          </a:xfrm>
          <a:prstGeom prst="borderCallout1">
            <a:avLst>
              <a:gd name="adj1" fmla="val 18750"/>
              <a:gd name="adj2" fmla="val -8333"/>
              <a:gd name="adj3" fmla="val 67819"/>
              <a:gd name="adj4" fmla="val -52726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ugungsa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624960"/>
            <a:ext cx="822960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Attributed Prototyped Class Factory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-252360">
              <a:lnSpc>
                <a:spcPct val="101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dere konkrete Fabrik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60360" y="2909880"/>
            <a:ext cx="6640560" cy="35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ttributeUsa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ttributeTarge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Assembly, AllowMultiple=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tru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ConstantFactoryAttribu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ctionFactoryAttrib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riv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readon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ConstructorInf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_c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riv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readon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Gu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_gui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riv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readon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_nam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riv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readon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_val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stantFactoryAttribute 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Typ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,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uid,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ame,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val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ba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ci    = t.GetConstructor (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Typ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] {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typeo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Gu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typeo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typeo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}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i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_ci ==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nul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thr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rgumentExcep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"t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guid  =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Gu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gu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name  = nam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value = val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overr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reate 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_ci.Invoke (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obje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] { _guid, _name, _value }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10160" y="2457360"/>
            <a:ext cx="3149640" cy="782640"/>
          </a:xfrm>
          <a:prstGeom prst="borderCallout1">
            <a:avLst>
              <a:gd name="adj1" fmla="val 18750"/>
              <a:gd name="adj2" fmla="val -8333"/>
              <a:gd name="adj3" fmla="val 195120"/>
              <a:gd name="adj4" fmla="val -30750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metrisiert mit Produkttyp und Produkteigenschaf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670720" y="5219640"/>
            <a:ext cx="2970000" cy="539640"/>
          </a:xfrm>
          <a:prstGeom prst="borderCallout1">
            <a:avLst>
              <a:gd name="adj1" fmla="val 18750"/>
              <a:gd name="adj2" fmla="val -8333"/>
              <a:gd name="adj3" fmla="val 133175"/>
              <a:gd name="adj4" fmla="val -51513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chtige Instanz erzeu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624960"/>
            <a:ext cx="822960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Attributed Prototyped Class Factory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-252360">
              <a:lnSpc>
                <a:spcPct val="101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r Zaub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360360" y="2025720"/>
            <a:ext cx="84596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ssembly: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StdActionFactor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typeo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Pus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)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ssembly: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ConstantFactoryAttribu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typeo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Consta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"A96DE5CD-8266-46ad-8546-40C2B02C72CA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"Pi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Ma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PI)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ssembly: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ConstantFactoryAttribu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typeo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Consta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"3E8A646F-F1C6-4bf0-A203-099FEBC3DC89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"e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Ma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E)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040" y="2867040"/>
            <a:ext cx="863604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riv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vo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_load 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loadAssembly 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ssemb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GetExecutingAssembly 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c =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ssemb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GetEntryAssembly ().Locatio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DirectoryInf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i =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DirectoryInf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Pa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GetDirectoryName (loc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FileInf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] fis = di.GetFiles (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"*PI.dll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forea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FileInf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i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loadAssembly 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ssemb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LoadFile(fi.FullNam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riv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vo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_loadAssembly 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ssemb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loadActions (as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riv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vo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_loadActions 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ssemb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ctionFactoryAttribu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] attrs = 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ctionFactoryAttribu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]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.GetCustomAttributes (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typeo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ctionFactoryAttribu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fal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forea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ctionFactoryAttribu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tt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tt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tem = att.Create 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actions[item.Guid] = item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21320" y="2965320"/>
            <a:ext cx="2398680" cy="635040"/>
          </a:xfrm>
          <a:prstGeom prst="borderCallout1">
            <a:avLst>
              <a:gd name="adj1" fmla="val 18750"/>
              <a:gd name="adj2" fmla="val -8333"/>
              <a:gd name="adj3" fmla="val 45319"/>
              <a:gd name="adj4" fmla="val -71550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n geladenen Assemb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389640" y="3780000"/>
            <a:ext cx="2430360" cy="360360"/>
          </a:xfrm>
          <a:prstGeom prst="borderCallout1">
            <a:avLst>
              <a:gd name="adj1" fmla="val 18750"/>
              <a:gd name="adj2" fmla="val -8333"/>
              <a:gd name="adj3" fmla="val 49949"/>
              <a:gd name="adj4" fmla="val -107407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s den PlugIn'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89640" y="4319640"/>
            <a:ext cx="2430360" cy="720720"/>
          </a:xfrm>
          <a:prstGeom prst="borderCallout1">
            <a:avLst>
              <a:gd name="adj1" fmla="val 18750"/>
              <a:gd name="adj2" fmla="val -8333"/>
              <a:gd name="adj3" fmla="val 124935"/>
              <a:gd name="adj4" fmla="val -62962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globalen mit davon Abgeleit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389640" y="5219640"/>
            <a:ext cx="2430360" cy="720720"/>
          </a:xfrm>
          <a:prstGeom prst="borderCallout1">
            <a:avLst>
              <a:gd name="adj1" fmla="val 18750"/>
              <a:gd name="adj2" fmla="val -8333"/>
              <a:gd name="adj3" fmla="val 74958"/>
              <a:gd name="adj4" fmla="val -129629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stelle einen Prototy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88000" y="1530360"/>
            <a:ext cx="3149640" cy="539640"/>
          </a:xfrm>
          <a:prstGeom prst="borderCallout1">
            <a:avLst>
              <a:gd name="adj1" fmla="val 18750"/>
              <a:gd name="adj2" fmla="val -8333"/>
              <a:gd name="adj3" fmla="val 139972"/>
              <a:gd name="adj4" fmla="val -59611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nkrete Fabri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39560" y="3770280"/>
            <a:ext cx="2521080" cy="270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624960"/>
            <a:ext cx="822960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Attributed Prototyped Class Factory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-252360">
              <a:lnSpc>
                <a:spcPct val="101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dukteigenschaften / Bootstraping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4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ktedi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4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ialisieru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4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kterzeugu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3795840" y="2173320"/>
            <a:ext cx="4824360" cy="15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62000"/>
              </a:lnSpc>
              <a:spcBef>
                <a:spcPts val="28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ProductEdit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User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spcBef>
                <a:spcPts val="28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spcBef>
                <a:spcPts val="28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at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readon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Gu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UID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spcBef>
                <a:spcPts val="28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Gu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"66A8D5F0-1E7C-4b60-B6D1-011257E83DD0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spcBef>
                <a:spcPts val="28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spcBef>
                <a:spcPts val="28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Produ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ewProduk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spcBef>
                <a:spcPts val="28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vo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EditProdukt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Produ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roduk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spcBef>
                <a:spcPts val="28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vo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WritePodukt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Stre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tream, Produkt produk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spcBef>
                <a:spcPts val="28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Produ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adProdukt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Stre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spcBef>
                <a:spcPts val="28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20720" y="4680000"/>
            <a:ext cx="1979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5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ribute Fa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00360" y="5040360"/>
            <a:ext cx="1800360" cy="12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600360" y="4680000"/>
            <a:ext cx="180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5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480000" y="5040360"/>
            <a:ext cx="16210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480000" y="4680000"/>
            <a:ext cx="1621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5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700360" y="4859280"/>
            <a:ext cx="9000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400720" y="4859280"/>
            <a:ext cx="10792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600360" y="5187960"/>
            <a:ext cx="166356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58000"/>
              </a:lnSpc>
              <a:spcBef>
                <a:spcPts val="28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Produc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8000"/>
              </a:lnSpc>
              <a:spcBef>
                <a:spcPts val="28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Produc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8000"/>
              </a:lnSpc>
              <a:spcBef>
                <a:spcPts val="28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Produc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8000"/>
              </a:lnSpc>
              <a:spcBef>
                <a:spcPts val="28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Produc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0720" y="5227560"/>
            <a:ext cx="1979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5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ribute Fa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20720" y="5767560"/>
            <a:ext cx="1979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5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ribute Fa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7840" y="3973680"/>
            <a:ext cx="218484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5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mbly 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000" y="590400"/>
            <a:ext cx="821844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Attributed Prototyped Class Factory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82184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-252360">
              <a:lnSpc>
                <a:spcPct val="101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Zusammenfassung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52360" indent="-252360">
              <a:lnSpc>
                <a:spcPct val="108000"/>
              </a:lnSpc>
              <a:spcBef>
                <a:spcPts val="887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abriken bzw. Metafabriken werden wie Prototypen behandel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2360" indent="-252360">
              <a:lnSpc>
                <a:spcPct val="108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rialisierung wird von der .NET Laufzeitumgebung durchgeführ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2360" indent="-252360">
              <a:lnSpc>
                <a:spcPct val="108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tafabriken erstellen komplexe Fabrik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2360" indent="-252360">
              <a:lnSpc>
                <a:spcPct val="108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abriken erstellen konkrete Produkt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651960" y="5219640"/>
            <a:ext cx="799740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5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 u="sng">
                <a:solidFill>
                  <a:srgbClr val="0000ff"/>
                </a:solidFill>
                <a:uFillTx/>
                <a:latin typeface="Arial"/>
              </a:rPr>
              <a:t>Eine Fabrik pro Produktty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624960"/>
            <a:ext cx="822960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Attributed Prototyped Class Factory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-252360">
              <a:lnSpc>
                <a:spcPct val="101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Über mic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5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mierer, Architek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5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schung, Entwicklu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5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dows, Unix, Linu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5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, C++, C#, (Jav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5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C, Web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5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e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5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-25 Jahre davon 10 berufli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604800"/>
            <a:ext cx="8223120" cy="11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Attributed Prototyped Class Factory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628640"/>
            <a:ext cx="530388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-252360">
              <a:lnSpc>
                <a:spcPct val="101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as ist eine Class Factor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2360" indent="-252360">
              <a:lnSpc>
                <a:spcPct val="101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as sind Prototyp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2360" indent="-252360">
              <a:lnSpc>
                <a:spcPct val="101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dukt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2360" indent="-252360">
              <a:lnSpc>
                <a:spcPct val="101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dizierte Fabrik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2360" indent="-252360">
              <a:lnSpc>
                <a:spcPct val="101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abriken als Prototyp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2360" indent="-252360">
              <a:lnSpc>
                <a:spcPct val="101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ootstraping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000" y="614160"/>
            <a:ext cx="8226360" cy="10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Attributed Prototyped Class Factory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5400720" y="2700360"/>
            <a:ext cx="2338200" cy="1440000"/>
            <a:chOff x="5400720" y="2700360"/>
            <a:chExt cx="2338200" cy="1440000"/>
          </a:xfrm>
        </p:grpSpPr>
        <p:grpSp>
          <p:nvGrpSpPr>
            <p:cNvPr id="109" name=""/>
            <p:cNvGrpSpPr/>
            <p:nvPr/>
          </p:nvGrpSpPr>
          <p:grpSpPr>
            <a:xfrm>
              <a:off x="5400720" y="2700360"/>
              <a:ext cx="2338200" cy="1440000"/>
              <a:chOff x="5400720" y="2700360"/>
              <a:chExt cx="2338200" cy="1440000"/>
            </a:xfrm>
          </p:grpSpPr>
          <p:sp>
            <p:nvSpPr>
              <p:cNvPr id="110" name=""/>
              <p:cNvSpPr/>
              <p:nvPr/>
            </p:nvSpPr>
            <p:spPr>
              <a:xfrm>
                <a:off x="5400720" y="2700360"/>
                <a:ext cx="2338200" cy="360000"/>
              </a:xfrm>
              <a:prstGeom prst="roundRect">
                <a:avLst>
                  <a:gd name="adj" fmla="val 44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actor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400720" y="3060360"/>
                <a:ext cx="2338200" cy="1080000"/>
              </a:xfrm>
              <a:prstGeom prst="roundRect">
                <a:avLst>
                  <a:gd name="adj" fmla="val 144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reateA (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1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reateB (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1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reateC (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4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93680"/>
                <a:tab algn="l" pos="642960"/>
                <a:tab algn="l" pos="1092240"/>
                <a:tab algn="l" pos="1541520"/>
                <a:tab algn="l" pos="1990800"/>
                <a:tab algn="l" pos="2440080"/>
                <a:tab algn="l" pos="2889360"/>
                <a:tab algn="l" pos="3338640"/>
                <a:tab algn="l" pos="3787920"/>
                <a:tab algn="l" pos="4237200"/>
                <a:tab algn="l" pos="4686480"/>
                <a:tab algn="l" pos="5135400"/>
                <a:tab algn="l" pos="5584680"/>
                <a:tab algn="l" pos="6033960"/>
                <a:tab algn="l" pos="6483240"/>
                <a:tab algn="l" pos="6932520"/>
                <a:tab algn="l" pos="7381800"/>
                <a:tab algn="l" pos="7831080"/>
                <a:tab algn="l" pos="8280360"/>
                <a:tab algn="l" pos="8729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ass Factor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3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93680"/>
                <a:tab algn="l" pos="642960"/>
                <a:tab algn="l" pos="1092240"/>
                <a:tab algn="l" pos="1541520"/>
                <a:tab algn="l" pos="1990800"/>
                <a:tab algn="l" pos="2440080"/>
                <a:tab algn="l" pos="2889360"/>
                <a:tab algn="l" pos="3338640"/>
                <a:tab algn="l" pos="3787920"/>
                <a:tab algn="l" pos="4237200"/>
                <a:tab algn="l" pos="4686480"/>
                <a:tab algn="l" pos="5135400"/>
                <a:tab algn="l" pos="5584680"/>
                <a:tab algn="l" pos="6033960"/>
                <a:tab algn="l" pos="6483240"/>
                <a:tab algn="l" pos="6932520"/>
                <a:tab algn="l" pos="7381800"/>
                <a:tab algn="l" pos="7831080"/>
                <a:tab algn="l" pos="8280360"/>
                <a:tab algn="l" pos="8729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stellt Objekte eines bestimmte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3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93680"/>
                <a:tab algn="l" pos="642960"/>
                <a:tab algn="l" pos="1092240"/>
                <a:tab algn="l" pos="1541520"/>
                <a:tab algn="l" pos="1990800"/>
                <a:tab algn="l" pos="2440080"/>
                <a:tab algn="l" pos="2889360"/>
                <a:tab algn="l" pos="3338640"/>
                <a:tab algn="l" pos="3787920"/>
                <a:tab algn="l" pos="4237200"/>
                <a:tab algn="l" pos="4686480"/>
                <a:tab algn="l" pos="5135400"/>
                <a:tab algn="l" pos="5584680"/>
                <a:tab algn="l" pos="6033960"/>
                <a:tab algn="l" pos="6483240"/>
                <a:tab algn="l" pos="6932520"/>
                <a:tab algn="l" pos="7381800"/>
                <a:tab algn="l" pos="7831080"/>
                <a:tab algn="l" pos="8280360"/>
                <a:tab algn="l" pos="8729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zahl der Objekttypen beschränk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3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93680"/>
                <a:tab algn="l" pos="642960"/>
                <a:tab algn="l" pos="1092240"/>
                <a:tab algn="l" pos="1541520"/>
                <a:tab algn="l" pos="1990800"/>
                <a:tab algn="l" pos="2440080"/>
                <a:tab algn="l" pos="2889360"/>
                <a:tab algn="l" pos="3338640"/>
                <a:tab algn="l" pos="3787920"/>
                <a:tab algn="l" pos="4237200"/>
                <a:tab algn="l" pos="4686480"/>
                <a:tab algn="l" pos="5135400"/>
                <a:tab algn="l" pos="5584680"/>
                <a:tab algn="l" pos="6033960"/>
                <a:tab algn="l" pos="6483240"/>
                <a:tab algn="l" pos="6932520"/>
                <a:tab algn="l" pos="7381800"/>
                <a:tab algn="l" pos="7831080"/>
                <a:tab algn="l" pos="8280360"/>
                <a:tab algn="l" pos="8729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kte Namentlich bekan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2080" y="1628280"/>
            <a:ext cx="401472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614160"/>
            <a:ext cx="8226360" cy="10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Attributed Prototyped Class Factory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4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-252360">
              <a:lnSpc>
                <a:spcPct val="101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totyp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3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egränzte Anzahl von Objektty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3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n Basisty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3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kterzeugung durch Klon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2080" y="1628280"/>
            <a:ext cx="401472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6300720" y="2700360"/>
            <a:ext cx="1619280" cy="2517840"/>
            <a:chOff x="6300720" y="2700360"/>
            <a:chExt cx="1619280" cy="2517840"/>
          </a:xfrm>
        </p:grpSpPr>
        <p:sp>
          <p:nvSpPr>
            <p:cNvPr id="118" name=""/>
            <p:cNvSpPr/>
            <p:nvPr/>
          </p:nvSpPr>
          <p:spPr>
            <a:xfrm>
              <a:off x="6300720" y="2700360"/>
              <a:ext cx="1619280" cy="2517840"/>
            </a:xfrm>
            <a:custGeom>
              <a:avLst/>
              <a:gdLst>
                <a:gd name="textAreaLeft" fmla="*/ 360 w 1619280"/>
                <a:gd name="textAreaRight" fmla="*/ 1618920 w 1619280"/>
                <a:gd name="textAreaTop" fmla="*/ 360 h 2517840"/>
                <a:gd name="textAreaBottom" fmla="*/ 2517480 h 2517840"/>
              </a:gdLst>
              <a:ahLst/>
              <a:rect l="textAreaLeft" t="textAreaTop" r="textAreaRight" b="textAreaBottom"/>
              <a:pathLst>
                <a:path w="21600" h="33583">
                  <a:moveTo>
                    <a:pt x="21" y="0"/>
                  </a:moveTo>
                  <a:arcTo wR="21" hR="21" stAng="16200000" swAng="-5400000"/>
                  <a:lnTo>
                    <a:pt x="0" y="33562"/>
                  </a:lnTo>
                  <a:arcTo wR="21" hR="21" stAng="10800000" swAng="-5400000"/>
                  <a:lnTo>
                    <a:pt x="21579" y="33583"/>
                  </a:lnTo>
                  <a:arcTo wR="21" hR="21" stAng="5400000" swAng="-5400000"/>
                  <a:lnTo>
                    <a:pt x="21600" y="21"/>
                  </a:lnTo>
                  <a:arcTo wR="21" hR="21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5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9640" y="2871360"/>
              <a:ext cx="1229040" cy="43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8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one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479640" y="3404520"/>
              <a:ext cx="1229040" cy="43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8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one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479640" y="3952080"/>
              <a:ext cx="1229040" cy="43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8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one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479640" y="4470840"/>
              <a:ext cx="1229040" cy="43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8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one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000" y="609480"/>
            <a:ext cx="822492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Attributed Prototyped Class Factory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3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-252360">
              <a:lnSpc>
                <a:spcPct val="101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duk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4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sdatenty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4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4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 (Gu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4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ditor (Gu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4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ne 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4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 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4754520" y="1994040"/>
            <a:ext cx="3706920" cy="32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abstra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riv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readon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_nam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ge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_name;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rotec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tion (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a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name  = nam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abstra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Gu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Guid    {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ge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virtu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Gu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Ed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ge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Gu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Empty;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abstra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vo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Perform 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IBoa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oar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abstra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lone  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624960"/>
            <a:ext cx="822960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Attributed Prototyped Class Factory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-252360">
              <a:lnSpc>
                <a:spcPct val="101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stimmter Produk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360360" y="2411280"/>
            <a:ext cx="5791320" cy="36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intern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Pus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at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readon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Gu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UID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             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Gu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"7BB60E11-D823-4c8e-A361-3AE2699B5CDA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ush 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ba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"Push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overr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Gu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ge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UID;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overr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vo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erform 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IBoa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oar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um =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Parse (board.Input,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CultureInf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CurrentUICultur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ard.Push (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Dat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num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overr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lone 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new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Pus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89520" y="3324240"/>
            <a:ext cx="2430720" cy="539640"/>
          </a:xfrm>
          <a:prstGeom prst="borderCallout1">
            <a:avLst>
              <a:gd name="adj1" fmla="val 18750"/>
              <a:gd name="adj2" fmla="val -8333"/>
              <a:gd name="adj3" fmla="val -15722"/>
              <a:gd name="adj4" fmla="val -156754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stellen über Standard 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624960"/>
            <a:ext cx="822960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Attributed Prototyped Class Factory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-252360">
              <a:lnSpc>
                <a:spcPct val="101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stimmter Produk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360360" y="2340000"/>
            <a:ext cx="4548240" cy="38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Internal 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Consta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riv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readon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Gu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_gui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riv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readon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_val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stant 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Gu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uid,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ame,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val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ba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na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guid  = gui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value = val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overr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vo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erform 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IBoa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oar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ard.Push (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Dat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_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overr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Gu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ge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_guid;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overr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reate 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Consta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_guid, Name, _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89520" y="3022560"/>
            <a:ext cx="2789280" cy="720720"/>
          </a:xfrm>
          <a:prstGeom prst="borderCallout1">
            <a:avLst>
              <a:gd name="adj1" fmla="val 18750"/>
              <a:gd name="adj2" fmla="val -8333"/>
              <a:gd name="adj3" fmla="val 40925"/>
              <a:gd name="adj4" fmla="val -41907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stellen über Benutzerdefinierten 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624960"/>
            <a:ext cx="822960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Attributed Prototyped Class Factory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-252360">
              <a:lnSpc>
                <a:spcPct val="101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Haltung von Prototype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4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rialisier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4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e deserialisieren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4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ngleton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52360" indent="-252360">
              <a:lnSpc>
                <a:spcPct val="104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roblem der klassischen Factory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4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e Elemente bekannt im Vorau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52360" indent="-252360">
              <a:lnSpc>
                <a:spcPct val="104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Hochspezialisierte Factory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4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Kennt nur einen Produktty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4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rialisierte Fact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900000" y="5580000"/>
            <a:ext cx="5938920" cy="896760"/>
            <a:chOff x="900000" y="5580000"/>
            <a:chExt cx="5938920" cy="896760"/>
          </a:xfrm>
        </p:grpSpPr>
        <p:grpSp>
          <p:nvGrpSpPr>
            <p:cNvPr id="137" name=""/>
            <p:cNvGrpSpPr/>
            <p:nvPr/>
          </p:nvGrpSpPr>
          <p:grpSpPr>
            <a:xfrm>
              <a:off x="900000" y="5580000"/>
              <a:ext cx="2159280" cy="896760"/>
              <a:chOff x="900000" y="5580000"/>
              <a:chExt cx="2159280" cy="896760"/>
            </a:xfrm>
          </p:grpSpPr>
          <p:sp>
            <p:nvSpPr>
              <p:cNvPr id="138" name=""/>
              <p:cNvSpPr/>
              <p:nvPr/>
            </p:nvSpPr>
            <p:spPr>
              <a:xfrm>
                <a:off x="900000" y="5580000"/>
                <a:ext cx="2159280" cy="299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7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actor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0000" y="5877720"/>
                <a:ext cx="2159280" cy="599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7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reate (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4680000" y="5580000"/>
              <a:ext cx="2158920" cy="896760"/>
              <a:chOff x="4680000" y="5580000"/>
              <a:chExt cx="2158920" cy="896760"/>
            </a:xfrm>
          </p:grpSpPr>
          <p:sp>
            <p:nvSpPr>
              <p:cNvPr id="141" name=""/>
              <p:cNvSpPr/>
              <p:nvPr/>
            </p:nvSpPr>
            <p:spPr>
              <a:xfrm>
                <a:off x="4680000" y="5580000"/>
                <a:ext cx="2158920" cy="299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7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roduk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680000" y="5877720"/>
                <a:ext cx="2158920" cy="599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7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lone (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2519280" y="6180120"/>
              <a:ext cx="2160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5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4710240" y="1636560"/>
            <a:ext cx="4230720" cy="1621080"/>
          </a:xfrm>
          <a:prstGeom prst="borderCallout1">
            <a:avLst>
              <a:gd name="adj1" fmla="val 18750"/>
              <a:gd name="adj2" fmla="val -8333"/>
              <a:gd name="adj3" fmla="val 89958"/>
              <a:gd name="adj4" fmla="val -47162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</a:rPr>
              <a:t>Enum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privat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stati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readonl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</a:rPr>
              <a:t>Enumerato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_instance = 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</a:rPr>
              <a:t>Enumerato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stati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</a:rPr>
              <a:t>Enumerato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ns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ge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</a:rPr>
              <a:t>Enumerato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_instance;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voi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EnumeratePrototypes(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</a:rPr>
              <a:t>Ac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</a:rPr>
              <a:t>Ite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gt; actio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ne</cp:lastModifiedBy>
  <dcterms:modified xsi:type="dcterms:W3CDTF">2006-05-15T10:54:40Z</dcterms:modified>
  <cp:revision>1</cp:revision>
  <dc:subject/>
  <dc:title>Attributed Prototyped Class Factory</dc:title>
</cp:coreProperties>
</file>