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6282-68A3-4723-80C6-E60A22793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F58D-F719-4453-A4B8-A4A09877B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67DE-C4B8-4165-96BF-3D08CFBE9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7D5B-FEC5-407A-B640-C469B98B6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244C-09D8-47BF-B329-A1C685F52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76FE-BA2A-45FA-A436-BB4FB471F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DD00-5102-4520-A452-7E2E44F7E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7161-A8CA-4D51-B7B7-D603C9DD9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27D3-0588-4D83-94BF-DD833442C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3622-5ED2-47A2-8CEF-E965E3109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B16B-40AA-40F9-BED2-3CF33620D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C13E-B719-4FAC-8F41-17E0A1C24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FEFD-E465-4AEF-B27E-0A64347F9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il@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www.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weblogs.asp.net/r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eblogs.asp.net/rweigelt/archive/2006/05/16/446536.aspx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QuickTip: VS Editor Tuning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5.2006 –  Roland Weigel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3989520"/>
            <a:ext cx="8280360" cy="1595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Edito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anchmal ist der Editor etwas "zäh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lli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ippen allgemein (auffällig z.B. in Kommentar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ilft ein wenig: NavigationBar abschal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NavigationBa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enerell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nche benutzen sie ständig, andere gar nic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ch persönlich brauche sie ab und zu, will daher nicht darauf verzich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so: An/Abschalten, möglichst beque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ösung: Makr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Sub ToggleCSharpNavigationBar()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    Dim objShowNavigationBar As EnvDTE.Property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    objShowNavigationBar = DTE.Properties("TextEditor", "CSharp").Item("ShowNavigationBar")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    objShowNavigationBar.Value = Not objShowNavigationBar.Value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End Sub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NavigationBa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stall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ols -&gt; Macros -&gt; Macros 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eues Modul (Name egal, z.B. "Misc") oder Vorhande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krotext einkopi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weder Hotkey bele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ools -&gt; Options -&gt; Keybo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der Toolbar-Button defin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echte Maustaste auf Toolbar-Bereich -&gt; Custom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sführliche Beschreibung in meinem Web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eblogs.asp.net/rweigelt/archive/2006/05/16/446536.asp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[DEMO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Roland Weigelt</cp:lastModifiedBy>
  <dcterms:modified xsi:type="dcterms:W3CDTF">2006-05-16T16:29:13Z</dcterms:modified>
  <cp:revision>235</cp:revision>
  <dc:subject/>
  <dc:title>Slide 1</dc:title>
</cp:coreProperties>
</file>