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8CF1-2B56-437E-8794-9346AE139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6C2C-F4A4-4184-9F4A-2BAC9AEBA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9A54-F064-4E31-93CA-173043284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7471-C4A3-49CB-99F2-7FEA41FA6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75A4-8339-41A9-96DF-8BC59C1AF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7C1B-1243-43C5-8978-01B68923F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D829-BAAE-43F0-95A8-299BDBE0E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4404-409B-4AAD-AE32-735853A3B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9EEA-4F44-413D-BD0A-1CA704955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A0FE-8627-4C28-9E1F-0A6E7AE2F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5085-B0FF-4055-894E-0613BE030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E257-C153-4E19-B361-561ADDDD6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9E5-9E4C-417F-A6D9-1D1F7937C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KVM</a:t>
            </a:r>
            <a:br>
              <a:rPr sz="3600"/>
            </a:br>
            <a:br>
              <a:rPr sz="12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  <a:ea typeface="Times New Roman"/>
              </a:rPr>
              <a:t>Java und .NET integrieren</a:t>
            </a: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0700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08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4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r Java-Bytecode einer Bibliothek wird durch einen Kompiler in .NET-Bytecode (Assembly) überführt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–out:Lib.dll –target:library Lib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zeugte .NET-Assembly kann dann in .NET-Entwicklung wie üblich verwend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[Demo folg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5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in Java entwicke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bei bei Bedarf .NET-Bibliotheken verwenden (Stub-Generierung 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stub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Java-kompilieren und dann mit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eine .NET-Anwendung transform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mo für Einsatzmöglichkeit 2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Verwendung von Java-Bibliotheken in .NET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 zur Erzeugung von TreeMa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iehe Links) herunterladen und Java-kompil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us dem Java-Kompilat die .NET-Assembly TreeMaps.dll erzeugen: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 -out:treemaps.dll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target:library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recurse:.\*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ssembly TreeMaps.dll in einer .NET-Konsolenanwendung verwenden,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m eine TreeMap zu berech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verwendet GNU.Class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GNU Classpath, Essential Libraries for Java, is a GNU project to create free core class libraries for use with virtual machines and compilers for the java programming language.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NU.Classpath wird in Form von IKVM.GNU.Classpath.dll kompiliert mit IKVM ausgelief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kennt also genau die in GNU.Classpath implementierten Java-Biblioth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halb ist stets zu prüfen, ob die Java-Anwendung oder Java-Bibliothek Funktionen aufruft, die GNU.Classpath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lement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ter Umständen tritt das Problem erst zur Laufzeit auf ("NotImplementedException" aus GNU.Classpa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bhängigkeit zu GNU.Classpath stellt ein Risiko beziehungsweise einen Mehraufwand für Kompatibilitätsprüfungen dar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.. aber irgendeine Implementierung der Java-Klassenbibliotheken muß man schließlich verwen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e und Risik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patibilität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en in GNU.Class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ufzeitperformanc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utlich langsamer als in "nativen" JV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ehlersuch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bugging problema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chtliche Fra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such eines 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Wann sollte IKVM eingesetzt werden?"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ennt keine pauschale Antwor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sten der Integration in den Entwicklungsprozess berücksichtig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ötigt man wirklich eine Java-Codebasis, we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 für .NET entwicke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ntwort hängt stark vom Umfel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d der Art der Entwicklung a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ivate Aufgaben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Source-Bibliothek zur Generierung von TreeMaps ausprob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ibliothek ist in Java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as tun - als .NET-Entwickl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anke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ikvm.net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NU Classpath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gnu.org/software/classpath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mainsoft.com/products/index.asp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jnbridge.com/jnbpro.ht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msdn2.microsoft.com/en-us/vjsharp/aa718346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eemap-Algorithmen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cs.umd.edu/hcil/treemap-history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 recherch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e steht es mit Java 1.5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Java und .NET integr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in wichtiges T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ele Artikel und Blog-Ein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sparnispot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chsendes Angebot auf dem Mar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A-Ze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elfältige Lösungsmöglichkeiten verschiedener Anbi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möglicht es, .NET-Anwendungen (auch ASP.NET)  dahingehend zu übersetzen (Bytecode), daß sie in einer J2EE-Umgebung laufen, u.U. auch für bestimmte Applikationsserver optimiert ("Grashopper" frei verfügbar: ASP.NET -&gt; Tomc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irbt mit "Access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yth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Java from .NET" und umgekehrt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hlweise dienen Shared Memory, Sockets, ein spezielles (binäres) Netzwerkprotokoll oder Netzwerkkommunikation über HTTP/SOAP als Brüc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J#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code wird nach J# konvertiert (J#-Projekt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d kann dann in .NET-Assembly übersetz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rcosoft 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va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gratio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th to .NET": Java-Quellcode wird 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#-Quellcode übersetz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IKVM.NET is an implementation of Java for Mono and the Microsoft .NET Framework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nweis: keine erschöpfende Liste, sondern Ergebnis einer schnellen Recher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chnische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munikation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ssaging, HTTP/SOAP, SharedMemory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Übersetzung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Sourcen -&gt; C#-Sourc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t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-&gt; .NET-Byt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-Source-Implementierung von Java für Mono und Microsoft .NET Framework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uelle Version: 0.34.0.2 vom 5. Mai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rbeitet "übersetzungsorientiert"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in .NET-Bytecode transform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texte sind somit nicht erforderli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rei verschiedene Einsatz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NET-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t mit einer Java VM (z.B. von Sun) eine Java-Anwendung einfach mit IKVM ausführen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MyApp.clas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tatt "java MyApp.class"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dann "just in time" in .NET-Klassen überfüh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ist also eine Java VM-Implementieru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9:06:09Z</dcterms:created>
  <dc:creator>Gerhild Schlemm</dc:creator>
  <dc:description/>
  <dc:language>en-US</dc:language>
  <cp:lastModifiedBy>Gerhard Schlemm</cp:lastModifiedBy>
  <dcterms:modified xsi:type="dcterms:W3CDTF">2007-08-28T05:23:00Z</dcterms:modified>
  <cp:revision>125</cp:revision>
  <dc:subject/>
  <dc:title>IVKM  Java und .NET integrieren </dc:title>
</cp:coreProperties>
</file>