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DBC5-581D-4732-A246-BE34D3133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04B70-1B1E-4C4D-878E-CBEA0CDE4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5BCB8-529C-4DB7-BBF8-21BCE53F6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D255C-E6A3-404C-81A6-42BA319B9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4CC9-B8C5-400F-B2A0-54AD8C4C9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6A11-5E55-4194-BDA8-0E568B010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9D46-7271-404A-9D4B-313C86821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3D67-D808-46B4-9C18-141499D72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E039-DC0E-4054-9851-930963744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3F96-E339-44A2-8DBC-3D5173761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C5ED-1761-4224-AAAF-F98A13A67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9AF2-26AB-458A-9F10-7721922A3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12D2-2AAC-45F7-BB3E-7DBE3C347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sdn2.microsoft.com/en-us/library/ms164903(VS.80).aspx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142720"/>
            <a:ext cx="871380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Quick Tip:</a:t>
            </a:r>
            <a:br>
              <a:rPr sz="3600"/>
            </a:b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VS 2005</a:t>
            </a:r>
            <a:br>
              <a:rPr sz="3600"/>
            </a:b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„Make Object ID“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54160" y="3635280"/>
            <a:ext cx="683568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22.05.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erhard Schlem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bugging und Objektidentitä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 Watch-Fenster werden Objekte in der Regel durch ihren Namen im aktuellen Scope identifizi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durch können die Objekte nicht dauerhaf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gesehen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ziehungen zwischen mehreren Objekten werden im Watch-Fenster nicht k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bugging und Objektidentitä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s ist aber im Watch-Fenster auch möglich, mit der echten Identität beobachteter Objekte zu arbei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rundlegendes Prinz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Objekt anhand seinen Namens als Watch einfügen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um es initial zu identifizi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VS mitteilen, daß das Objekt ab jetzt zusätzlich per echter Objektidentität indentifiziert werden so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45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Kontextmenü im Watch-Fenster: „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ake Object ID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VS vergibt dann eine Alias der Form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&lt;Zahl&gt;#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ür das Ob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bugging und Objektidentitä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ßerdem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oll das Objekt dauerhaft im Watch-Fenster erscheinen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kann es unter seinem Alias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&lt;Zahl&gt;#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hinzugefügt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züge zwischen Objekten werden sichtbar – hat ein Objekt ein Alias, wird dieses im Watch-Fenster mit angezeig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ie per Alias bezeichneten Objekte können z.B. bei bedingten Breakpoints verwendet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45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Beispiel: Breakpoint auf die Ausführung einer Method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ines bestimmten, per Alias identifizierten Objekts beschränk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ie Identifizierung eines Objekts per Alias kann über das Kontextmenü mit „Delete Object ID“ ausgeschaltet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30715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40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bugging und Objektidentitä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merku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ilt nicht nur für das Watch-Fenster, sondern auch für die Quickwatch-Anzei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ur C#, nicht V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sual Studio 2005 und OR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ab es bei Objekten, die „unmanaged“ sind, schon immer über deren Adressen ;-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5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ff"/>
                </a:solidFill>
                <a:uFillTx/>
                <a:latin typeface="Tahoma"/>
                <a:hlinkClick r:id="rId1"/>
              </a:rPr>
              <a:t>http://msdn2.microsoft.com/en-us/library/ms164903(VS.80).asp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4:12:06Z</dcterms:created>
  <dc:creator>Gerhard Schlemm</dc:creator>
  <dc:description/>
  <dc:language>en-US</dc:language>
  <cp:lastModifiedBy>Gerhard Schlemm</cp:lastModifiedBy>
  <dcterms:modified xsi:type="dcterms:W3CDTF">2007-05-22T16:03:07Z</dcterms:modified>
  <cp:revision>15</cp:revision>
  <dc:subject/>
  <dc:title>Quick Tip: VS 2005 „Make Object ID“</dc:title>
</cp:coreProperties>
</file>