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8CE2-D9D8-47D4-A44A-87A3C6E33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A131-4751-4420-A1F4-27BBCCE4C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9EA2-BCC2-4016-863D-403C2BB7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C42-EE17-4AA9-94D3-4415671DE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B223-3A22-4ABA-9F49-5D598D0DC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15BA-AB10-4C89-A00A-730C133D8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EBD4-CB73-4746-B6BB-1ED5AC465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8732-047B-4820-B186-5A21AE66A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6BBC-8E8A-454D-B612-F49291DF5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014A-9800-4B0B-824D-7B72118BB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3B55-31F6-4581-BB11-54B29E417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8C93-14F0-4D02-B6D2-8BA3DBBAE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5C9E-6BB8-4902-9936-3219F38BA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3F67-5D45-4097-A5F6-216DC5E1C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7A83-72A3-4C6C-BAF1-06A65942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116B-F40C-4CC0-81D4-11B7B8696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6776-2806-4600-A37B-E12EE3ECC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andyrants.com/2007/02/vista_tip_eleva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hellrevealed.com/blogs/shellblog/archive/2006/10/16/Do-things-faster-with-Keyboard-Shortcuts.asp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anselman.com/blog/MoreOnVistaReparsePoints.aspx" TargetMode="External"/><Relationship Id="rId2" Type="http://schemas.openxmlformats.org/officeDocument/2006/relationships/hyperlink" Target="http://www.hanselman.com/blog/WindowsVistaJunctionsAndMovingMyDocumentsToAnotherDrive.aspx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aa965711.aspx" TargetMode="External"/><Relationship Id="rId2" Type="http://schemas.openxmlformats.org/officeDocument/2006/relationships/hyperlink" Target="http://blogs.msdn.com/cheller/archive/2006/12/05/advanced-query-syntax-what-where-why-and-how.aspx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ta in der Praxi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27.02.2007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tact@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– Desktop Composi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ies und Da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gramme schnell mit Administrator Rechten star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gramm über Startmenü suc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trl+Shift+Enter startet Programm mit Administrator Rech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rweiterter Task-Manag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tzt mit Services-Tab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500120" y="2928960"/>
            <a:ext cx="6100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ntrol Panel - Sehenswer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rol Panel -&gt; System and Maintenance -&gt; Performance Information and 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214960" y="3000240"/>
            <a:ext cx="25574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fad der aktuellen Datei kop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indows Explor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hift+Rechtsklic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 Ordner oder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opy as Pat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 Prompt Her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indows Explor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hift+Rechtklic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 einen Ordner (nur im rechten Fensterberei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Kontextmenü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ommand Prompt he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levated Command Prompt Her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icht „ab Werk“, aber durch einfaches REG-Fil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randyrants.com/2007/02/vista_tip_elev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3872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nipping Tool – für Screensho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m Erstellen von Screensho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eichern im gif, jpg, png, mht Format oder über die Zwischenabl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i: Fullscreen, Fenster, Rechteckiger Ausschnitt, Frei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Tablet PC Optional Components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ent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428920" y="4500720"/>
            <a:ext cx="4286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dows Mobility Cen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ür Notebook Besitzer sehr interessa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ruf mit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Win+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803240" y="3214800"/>
            <a:ext cx="5483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pps, Tipps, Ti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az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ie wichtigsten Vista Shortc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507204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sführliche Liste: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shellrevealed.com/blogs/shellblog/archive/2006/10/16/Do-things-faster-with-Keyboard-Shortcuts.asp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28640"/>
          <a:ext cx="8229600" cy="2941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+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nt Search box wäh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ip 3D st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+Shift+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 im Startmenü mit administrativen Rechten st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et Eintrag aus QuickLaunch Toolbar mit entsprechender Position.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: Win+2 würde Outlook starte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s Mobility Center öff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10717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Sämtliche Benutzerordner liegen unter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c:\users\&lt;Benutzername&gt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Im Explorer wird unterhalb vom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Desktop  </a:t>
            </a: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Ordner ein Ordner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Benutzername </a:t>
            </a: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angezeigt. Hier befinden sich Links auf sämtliche Benutzerordn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Alle Benutzerorder liegen in englischer Sprache v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Explorer deutscht Ordnernamen über </a:t>
            </a:r>
            <a:r>
              <a:rPr b="0" i="1" lang="de-DE" sz="2200" spc="-1" strike="noStrike">
                <a:solidFill>
                  <a:srgbClr val="000000"/>
                </a:solidFill>
                <a:latin typeface="Tahoma"/>
              </a:rPr>
              <a:t>Desktop.ini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 e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lnSpc>
                <a:spcPct val="90000"/>
              </a:lnSpc>
              <a:spcBef>
                <a:spcPts val="476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Das funktioniert auch mit Dateien! -&gt; Ein Angriffspunkt für Vire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Es wird massiv mit Symbolic Links gearbeite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=&gt; Verschieben über Registry Hacks gefährlich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326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Mehr Infos: </a:t>
            </a:r>
            <a:br>
              <a:rPr sz="2200"/>
            </a:br>
            <a:r>
              <a:rPr b="0" lang="de-DE" sz="13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hanselman.com/blog/MoreOnVistaReparsePoints.aspx</a:t>
            </a:r>
            <a:br>
              <a:rPr sz="1300"/>
            </a:br>
            <a:r>
              <a:rPr b="0" lang="de-DE" sz="13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anselman.com/blog/WindowsVistaJunctionsAndMovingMyDocumentsToAnotherDrive.aspx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m Benutzerordner zu verschieben sind keine extra Tools mehr nöt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 Ordner verschiebt man wie folgt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chtsklick auf Benutzerordner -&gt;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Locatio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Tab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ov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klicken und Zielort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sind die StartMenu, SendTo, etc. Ordner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:\Users\&lt;username&gt;\AppData\Roaming\Microsoft\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chtig: Um den AppData Ordner zu sehen muss die Optio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how hidden files and folders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im Explorer gewähl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indows Explor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lt+T (Tools Menü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der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ew Ta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chnellerer Weg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hell:sendto im Schnellsuchfeld eingeben (Vista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ies und Da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eil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in UAC Elevation Prompt für Standard-User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 Standard-User kann es lästig sein, für Programme die Administrator Rechte benötigen ständig das UAC Elevation Prompt zu se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es Verhalten kann jedoch abgeschalte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r Bildschirm wird nicht mehr abgedunk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Elevation Prompt erscheint nicht meh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in UAC Elevation Prompt für Standard-User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olgende Schritte sind notwendig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cal Security Policy (secpol.msc) öff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t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curity Settings -&gt; Local Policies -&gt; Security Op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e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Eintra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r Account Control: Behavior of the elevation prompt for standard us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öff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pt for credenti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u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omatically deny elevation reques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m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ackup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ckup and Restore Ce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Datei basiert oder Erstellung eines kompletten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age wird als .vhd Datei gespeichert und kann unter VirtualPC gemounte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ooten des Image unter VirtualPC funktioniert nicht, aber es gibt bereits Leute die daran „arbeiten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ücklesen kann entweder aus dem laufenden System erfolgen oder über die Vista Install-DVD (Recovery Mod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reencast dazu: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channel9.msdn.com/ShowPost.aspx?PostID=229767#22976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file für Spracherkennung auf anderen PC übertra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Easy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eingeb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indows Easy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start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tart a new transf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My Old Comput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rt des Transfers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f der Seite „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hat do you want to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Advanced Option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lle Einträge ab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Knoten mit dem eigenen Benutzernam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indows Settings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not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ound and Speech Recognitio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not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Knot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peech Recognitio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Next &amp; Ferti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1440" y="466200"/>
            <a:ext cx="8229600" cy="10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Windows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87440" y="3262320"/>
            <a:ext cx="759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308240" y="1960560"/>
            <a:ext cx="2492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 Access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85640" y="3162240"/>
            <a:ext cx="265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Network Location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46880" y="2854440"/>
            <a:ext cx="2341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High Resolution/High D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544280" y="5931000"/>
            <a:ext cx="1846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Side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92440" y="4119480"/>
            <a:ext cx="325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Vista Display Driv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352480" y="3341520"/>
            <a:ext cx="1512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eople Near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073480" y="5411880"/>
            <a:ext cx="17866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Def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114280" y="3602160"/>
            <a:ext cx="18568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7926120" y="3693960"/>
            <a:ext cx="1056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Live 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419960" y="1830240"/>
            <a:ext cx="1689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Side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7507800" y="2595600"/>
            <a:ext cx="167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ental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695480" y="1890720"/>
            <a:ext cx="2620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Feedback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4725720" y="4627440"/>
            <a:ext cx="23994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Desktop Window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258160" y="3097080"/>
            <a:ext cx="3112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ry/File System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13200" y="2529000"/>
            <a:ext cx="1739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ected Mo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274000" y="3627360"/>
            <a:ext cx="2580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Service Hard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512160" y="1752480"/>
            <a:ext cx="1224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Sync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3025080" y="1544760"/>
            <a:ext cx="5904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A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250000" y="2550960"/>
            <a:ext cx="201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resentation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52440" y="3994200"/>
            <a:ext cx="1335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694800" y="1617840"/>
            <a:ext cx="2273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Account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-5760" y="2220840"/>
            <a:ext cx="2370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Ad-hoc Meet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7002000" y="3395520"/>
            <a:ext cx="1325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Quick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4458600" y="2511360"/>
            <a:ext cx="2352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Imaging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011400" y="4386240"/>
            <a:ext cx="2757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Resourc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8273520" y="2971800"/>
            <a:ext cx="907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MC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2663640" y="2916360"/>
            <a:ext cx="1414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ncelab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3254400" y="6126120"/>
            <a:ext cx="3063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source Exhaustion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5098680" y="3916440"/>
            <a:ext cx="2849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eer Name Resolu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7023240" y="2351160"/>
            <a:ext cx="1361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Reading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33200" y="6515280"/>
            <a:ext cx="2451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Disk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6099840" y="1620720"/>
            <a:ext cx="158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star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5840280" y="4238640"/>
            <a:ext cx="210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actional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1948680" y="3398760"/>
            <a:ext cx="1305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ingl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2886120" y="4708440"/>
            <a:ext cx="1927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7102800" y="4681440"/>
            <a:ext cx="2047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rtup Repair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6461280" y="5821200"/>
            <a:ext cx="2385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actional 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513000" y="5956200"/>
            <a:ext cx="26982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venting an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4209480" y="1494000"/>
            <a:ext cx="1617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S-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3817800" y="5583240"/>
            <a:ext cx="916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fo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2988720" y="3843360"/>
            <a:ext cx="1163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per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6762600" y="5580000"/>
            <a:ext cx="1381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egoe UI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5941800" y="5165640"/>
            <a:ext cx="7290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Flip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6848280" y="6081840"/>
            <a:ext cx="1424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New Explor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074960" y="4500720"/>
            <a:ext cx="1916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Taskbar Thumb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8379000" y="3311640"/>
            <a:ext cx="552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674880" y="5886360"/>
            <a:ext cx="687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XA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7194240" y="4437000"/>
            <a:ext cx="1472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Search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6730200" y="2119320"/>
            <a:ext cx="1225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Ink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7903800" y="4071960"/>
            <a:ext cx="1244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lit 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-7200" y="5492880"/>
            <a:ext cx="2521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ndatory Integr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7045920" y="6629400"/>
            <a:ext cx="19422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I Privileg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2419200" y="2316240"/>
            <a:ext cx="1452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cure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3418560" y="5040360"/>
            <a:ext cx="2494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Filtering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292680" y="4761000"/>
            <a:ext cx="26629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Mode Driv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1369080" y="5711760"/>
            <a:ext cx="2215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New Open/Save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-5400" y="3513240"/>
            <a:ext cx="2079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hell Proper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424440" y="4264200"/>
            <a:ext cx="2292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logon Re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5038200" y="2798640"/>
            <a:ext cx="3376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Communic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3692880" y="2168640"/>
            <a:ext cx="311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Present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2214000" y="3898800"/>
            <a:ext cx="671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2594160" y="5308560"/>
            <a:ext cx="2571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Open Packag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84240" y="6208560"/>
            <a:ext cx="2265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XML Paper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5824440" y="4919760"/>
            <a:ext cx="28339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Workflow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451800" y="5211720"/>
            <a:ext cx="2000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Installer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0"/>
          <p:cNvSpPr/>
          <p:nvPr/>
        </p:nvSpPr>
        <p:spPr>
          <a:xfrm>
            <a:off x="329040" y="1908000"/>
            <a:ext cx="75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n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1"/>
          <p:cNvSpPr/>
          <p:nvPr/>
        </p:nvSpPr>
        <p:spPr>
          <a:xfrm>
            <a:off x="7838640" y="5361120"/>
            <a:ext cx="1325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RSS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2"/>
          <p:cNvSpPr/>
          <p:nvPr/>
        </p:nvSpPr>
        <p:spPr>
          <a:xfrm>
            <a:off x="1254960" y="4941720"/>
            <a:ext cx="2184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Function Discovery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3"/>
          <p:cNvSpPr/>
          <p:nvPr/>
        </p:nvSpPr>
        <p:spPr>
          <a:xfrm>
            <a:off x="4820400" y="5668920"/>
            <a:ext cx="1771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zard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42120" y="3757680"/>
            <a:ext cx="2184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rypto Nex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5"/>
          <p:cNvSpPr/>
          <p:nvPr/>
        </p:nvSpPr>
        <p:spPr>
          <a:xfrm>
            <a:off x="6944760" y="5145120"/>
            <a:ext cx="1929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redential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Form 954370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57280" cy="1481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4"/>
          <p:cNvSpPr/>
          <p:nvPr/>
        </p:nvSpPr>
        <p:spPr>
          <a:xfrm>
            <a:off x="2840760" y="6477120"/>
            <a:ext cx="3219480" cy="3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fident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 | 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lear</a:t>
            </a:r>
            <a:r>
              <a:rPr b="1" lang="en-US" sz="1600" spc="-1" strike="noStrike">
                <a:solidFill>
                  <a:srgbClr val="bbe0e3"/>
                </a:solidFill>
                <a:latin typeface="Segoe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|  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Conn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2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8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2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4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6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8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2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4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6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2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6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8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4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6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8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2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6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4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6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2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6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14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2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4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4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6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8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2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Vista ist kein bahnbrechendes System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Features wie „Voll skalierbare Oberflächen“ und „WinFS“ fehl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Vista ist ein sehr gut abgerundetes X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tylisches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Coole Performance To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ehr gut nutzbares Backu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 Sicherhe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chnelle und einfache Suchmöglichkeit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s Wireless Netwo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r Notebook Sup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s Window Management dank DW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Verbesserte Stabilitä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ing A Bootable WinPE 2.0 USB Key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indowsconnected.com/blogs/joshs_blog/archive/2007/02/05/creating-a-bootable-winpe-2-0-usb-key.asp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st-Buy Vista Videos</a:t>
            </a:r>
            <a:br>
              <a:rPr sz="2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asier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nhanced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ntertain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mobile.wv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The End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nke für‘s Zuhör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28280"/>
            <a:ext cx="4329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8760" indent="-248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artmenü Such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sucht gesamten Index und das Startmen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ustregel: Alles, was im Explorer im Ordn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&lt;Benutzername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terhalb v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Deskto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nthalten ist, wird out-of-the-box durchsu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voriten, Verlauf, Kontakte, E-Mails werden ebenfalls durchsu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000760" y="1785960"/>
            <a:ext cx="3924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 und natürlich sprachliche Such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anfragen, wie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documents modified last month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kind:docs modified:last month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nd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Aktivierung sind folgende Schritte notwend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 Windows Explorer auf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Organiz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Folder and Search Op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 dem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earc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ab die Option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 natural language searc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rachumfang: </a:t>
            </a:r>
            <a:br>
              <a:rPr sz="2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2.microsoft.com/en-us/library/aa965711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Infos: </a:t>
            </a:r>
            <a:br>
              <a:rPr sz="2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blogs.msdn.com/cheller/archive/2006/12/05/advanced-query-syntax-what-where-why-and-how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 Suche kann gespeich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einer Suche im Windows Explorer den Butt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ave Sear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en werden im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arch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rdner gespeich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en werden als XML Dateien mit der Endung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.search-m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espeich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sktop Composition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sktop Composi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rd durch den Desktop Window Manager  (DMW) gesteuer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zelne Fenster werden nicht mehr angewiesen Ihren sichtbaren Bereich selbst auf den Bildschirm zu zeich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m Fenster wird ein sog.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offscreen surfac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(Bitmap, Textur, Puffer) zugewie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r DWM komponiert aus diese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offscreen surfac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n eigentlichen Deskto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20:15:54Z</dcterms:created>
  <dc:creator>Jens Schaller</dc:creator>
  <dc:description/>
  <dc:language>en-US</dc:language>
  <cp:lastModifiedBy>Jens Schaller</cp:lastModifiedBy>
  <dcterms:modified xsi:type="dcterms:W3CDTF">2007-03-02T06:39:29Z</dcterms:modified>
  <cp:revision>95</cp:revision>
  <dc:subject/>
  <dc:title>Vortragstitel</dc:title>
</cp:coreProperties>
</file>