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42B8-2337-4D8C-A3D8-5DEF8FB98B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A208-E369-40B4-9293-CFEACBA9E5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C420-5042-46AC-9987-962FD3259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7EF3-94C6-43D0-9494-F1787BF3AC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06D8-AA6D-40FD-B652-ADBCABDC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FAF2-EB45-42AF-B955-0B88A41482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565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B323-1D64-42D4-AEFF-2508CA50912A}" type="datetime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fld id="{60DDB547-F365-4DD2-B50C-81C4C1A29634}" type="datetime10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15:0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55652"/>
          <p:cNvSpPr/>
          <p:nvPr/>
        </p:nvSpPr>
        <p:spPr>
          <a:xfrm>
            <a:off x="5583240" y="8683560"/>
            <a:ext cx="12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C64C-098E-4AAA-A9DC-1F22F107723E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55653"/>
          <p:cNvSpPr/>
          <p:nvPr/>
        </p:nvSpPr>
        <p:spPr>
          <a:xfrm>
            <a:off x="0" y="8791560"/>
            <a:ext cx="5667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Franklin Gothic Book"/>
              </a:rPr>
              <a:t>© 2004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Franklin Gothic Book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565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Next Generation Business Solutions Platform Strateg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81D-0FCC-462B-A899-2DD8CABDED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462E-C8B2-4B8D-8AA7-8FCB4AB39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4317-E518-4B1B-8D7B-69F9AD2AF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xt: These are the four goals of WPF – next few slides drill down further on eac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I, graphics, documents and media into a single environment: providing a richer experience by unifying these together, allowing them to be integrated in a far deeper way than before, and reducing the number of APIs developers have to track by putting things into a single managed object-orientated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 graphics processors woefully underused by modern applications. 128MB memory, rich 3D capabilities. Avalon takes advantage of these capabilities using a DirectX-based model. Vector- rather than bitmap-based, supports high-dpi, double buffe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and procedural programming supported for designers and developers to do what they wan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make it as easy as “clicking on a link” to deploy an Avalon application: either via a browser or via a standalone ap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6CF5-3EFB-4995-94A2-F26A9596B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1A59-B765-4EC5-AC84-20F7B1ABD0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8197-D6B4-4754-BEB0-951B6A807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3761-71EA-473F-9589-93EA1A9B3E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5EED-1A16-403B-B705-B143E049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5831-5841-42FA-A982-D9C2B39077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58C0-DCD0-448F-BA0B-E287F6F30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993D-17F4-4051-822E-69DAD24C7E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DA6D-4CF0-41B2-969E-85BE3DDB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BB81-77C2-45A4-8487-D086A4CC3B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08BD-EFEC-4E9C-BE7E-8AB553126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B20E-F9B2-45FD-9FE4-629FC9D40E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5583240" y="8685360"/>
            <a:ext cx="127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42DE-A76E-4FFA-B48A-EF822FB4A3ED}" type="slidenum"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C1C8-F453-43E9-A93D-62F3AF9EC93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7040-A8FA-4480-834F-E9045A88D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1049-5F74-4E54-B6B6-4B1F3D4F01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5DB8-1374-4FB5-BFF1-2662A5F23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D9EB-97A3-4234-87F3-7703EA5695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C4D9-4CB5-48BA-B627-328DCA5B3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8B90-2D4B-44D0-B7E7-9A9BF083BD4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24F0-2D9A-4183-901F-94FB2B5D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2AEE-AD94-4115-88C8-4FF6CD76B6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9D24-B878-442D-8050-1E8D9A244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9DFC-D8F7-48D4-8DC5-A788D36555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6D7-9F11-4DBC-AD3C-04F33E9D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506-1407-4669-AC67-7810B7DE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103-635A-43F2-911F-AB06328B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A3F-A764-4C98-8438-473D40F5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295-C888-4497-8F9B-630F663F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4ED-1DE5-4D42-89C5-EC46E02F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755-9885-4E95-8E7A-CEA1802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0C5-3981-47AC-A21D-023E9B94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47E-654B-4116-96B6-8EF215C5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EBD-0FF4-40AC-9D56-CB3CFA43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AF1-64FD-4BA2-BDCC-940B28BB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34A-A03A-435D-8DCA-11D7C593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269-D085-4DF7-A97B-29CD00E8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F022-3AF7-46FA-82AA-8F7C519AC4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3804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2320" y="1414440"/>
            <a:ext cx="83804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24760" indent="-350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95920" indent="-3690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529280" indent="-331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dev_sub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586800" indent="-225720">
              <a:spcBef>
                <a:spcPts val="7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2" marL="902880" indent="-180360">
              <a:spcBef>
                <a:spcPts val="799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3" marL="1263960" indent="-180360">
              <a:spcBef>
                <a:spcPts val="7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4" marL="1625040" indent="-180360">
              <a:spcBef>
                <a:spcPts val="799"/>
              </a:spcBef>
              <a:buClr>
                <a:srgbClr val="ffffff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Stefan.Lange@empira.de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Background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560" y="1642680"/>
            <a:ext cx="871380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Windows Vista</a:t>
            </a: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aus Entwicklersicht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27.02.2007 –  Stefan Lan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5951520"/>
            <a:ext cx="5000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ffffff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Stefan.Lange@empira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Side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Microsoft .NET Framework 3.0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65" name="TextBox 27"/>
          <p:cNvSpPr/>
          <p:nvPr/>
        </p:nvSpPr>
        <p:spPr>
          <a:xfrm>
            <a:off x="2790720" y="1574640"/>
            <a:ext cx="387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Presentation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Next generation user experi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0"/>
          <p:cNvSpPr/>
          <p:nvPr/>
        </p:nvSpPr>
        <p:spPr>
          <a:xfrm>
            <a:off x="2803680" y="5958000"/>
            <a:ext cx="387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CardSpace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Digital identity 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333"/>
          <p:cNvSpPr/>
          <p:nvPr/>
        </p:nvSpPr>
        <p:spPr>
          <a:xfrm>
            <a:off x="6140520" y="3463920"/>
            <a:ext cx="3003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Workflow         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Business process mode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168"/>
          <p:cNvSpPr/>
          <p:nvPr/>
        </p:nvSpPr>
        <p:spPr>
          <a:xfrm>
            <a:off x="0" y="3463920"/>
            <a:ext cx="3181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Communication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Service-oriented develop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Rectangle 25605" descr=""/>
          <p:cNvPicPr/>
          <p:nvPr/>
        </p:nvPicPr>
        <p:blipFill>
          <a:blip r:embed="rId1"/>
          <a:stretch/>
        </p:blipFill>
        <p:spPr>
          <a:xfrm>
            <a:off x="7523280" y="6086520"/>
            <a:ext cx="1544400" cy="69516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2560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852640" y="4670280"/>
            <a:ext cx="3794400" cy="142272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7"/>
          <p:cNvGrpSpPr/>
          <p:nvPr/>
        </p:nvGrpSpPr>
        <p:grpSpPr>
          <a:xfrm>
            <a:off x="3360600" y="2471760"/>
            <a:ext cx="2775240" cy="2771640"/>
            <a:chOff x="3360600" y="2471760"/>
            <a:chExt cx="2775240" cy="2771640"/>
          </a:xfrm>
        </p:grpSpPr>
        <p:pic>
          <p:nvPicPr>
            <p:cNvPr id="272" name="Rectangle 25608" descr=""/>
            <p:cNvPicPr/>
            <p:nvPr/>
          </p:nvPicPr>
          <p:blipFill>
            <a:blip r:embed="rId3"/>
            <a:stretch/>
          </p:blipFill>
          <p:spPr>
            <a:xfrm>
              <a:off x="3360600" y="247176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Rectangle 25609" descr=""/>
            <p:cNvPicPr/>
            <p:nvPr/>
          </p:nvPicPr>
          <p:blipFill>
            <a:blip r:embed="rId4"/>
            <a:stretch/>
          </p:blipFill>
          <p:spPr>
            <a:xfrm>
              <a:off x="4747680" y="247176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Rectangle 25610" descr=""/>
            <p:cNvPicPr/>
            <p:nvPr/>
          </p:nvPicPr>
          <p:blipFill>
            <a:blip r:embed="rId5"/>
            <a:stretch/>
          </p:blipFill>
          <p:spPr>
            <a:xfrm>
              <a:off x="3360600" y="385704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Rectangle 25611" descr=""/>
            <p:cNvPicPr/>
            <p:nvPr/>
          </p:nvPicPr>
          <p:blipFill>
            <a:blip r:embed="rId6"/>
            <a:stretch/>
          </p:blipFill>
          <p:spPr>
            <a:xfrm>
              <a:off x="4747680" y="385704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Rectangle 25612" descr=""/>
            <p:cNvPicPr/>
            <p:nvPr/>
          </p:nvPicPr>
          <p:blipFill>
            <a:blip r:embed="rId7"/>
            <a:stretch/>
          </p:blipFill>
          <p:spPr>
            <a:xfrm>
              <a:off x="3740760" y="2851560"/>
              <a:ext cx="20156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egoe"/>
              </a:rPr>
              <a:t>WPF Visio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1414440"/>
            <a:ext cx="52563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Unified approach to UI, Documents, and Media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Integration as part of development and experience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Integrated, vector-based composition engine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Utilizing the power of the PC throughout the graphics stack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Declarative programming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Bringing designers directly into application development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Ease of deploymen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llowing administrators to deploy and manage applications securely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5173560" y="925200"/>
            <a:ext cx="3866400" cy="4241520"/>
            <a:chOff x="5173560" y="925200"/>
            <a:chExt cx="3866400" cy="4241520"/>
          </a:xfrm>
        </p:grpSpPr>
        <p:pic>
          <p:nvPicPr>
            <p:cNvPr id="280" name="Picture 5" descr="secondpage"/>
            <p:cNvPicPr/>
            <p:nvPr/>
          </p:nvPicPr>
          <p:blipFill>
            <a:blip r:embed="rId1"/>
            <a:stretch/>
          </p:blipFill>
          <p:spPr>
            <a:xfrm rot="294600">
              <a:off x="5257440" y="2895480"/>
              <a:ext cx="3670200" cy="21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6" descr="thirdpage"/>
            <p:cNvPicPr/>
            <p:nvPr/>
          </p:nvPicPr>
          <p:blipFill>
            <a:blip r:embed="rId2"/>
            <a:stretch/>
          </p:blipFill>
          <p:spPr>
            <a:xfrm rot="21154800">
              <a:off x="5410080" y="1143000"/>
              <a:ext cx="3510000" cy="20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11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egoe"/>
              </a:rPr>
              <a:t>WPF capabilities</a:t>
            </a: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4" name="Rectangle 31"/>
          <p:cNvSpPr/>
          <p:nvPr/>
        </p:nvSpPr>
        <p:spPr>
          <a:xfrm>
            <a:off x="76320" y="6172200"/>
            <a:ext cx="899136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1722600" y="1752480"/>
            <a:ext cx="58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Windows Presentation Found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9" descr="WinFXLogo"/>
          <p:cNvPicPr/>
          <p:nvPr/>
        </p:nvPicPr>
        <p:blipFill>
          <a:blip r:embed="rId1"/>
          <a:stretch/>
        </p:blipFill>
        <p:spPr>
          <a:xfrm>
            <a:off x="609480" y="4876920"/>
            <a:ext cx="1619280" cy="861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0" descr="WinFX"/>
          <p:cNvPicPr/>
          <p:nvPr/>
        </p:nvPicPr>
        <p:blipFill>
          <a:blip r:embed="rId2"/>
          <a:stretch/>
        </p:blipFill>
        <p:spPr>
          <a:xfrm>
            <a:off x="457200" y="2155680"/>
            <a:ext cx="84582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 Varian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PF Applik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auf de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lassische Windows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XBAP (XML Browser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auf dem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gleichbar mit 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äuft nur auf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PF/E (Code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kein .NET auf dem Client notwe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Browserübergrei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379872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XBAP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3886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lle Unterstützung von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D Graf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leicher Quellcode wie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llbild im I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495680" y="1676520"/>
            <a:ext cx="41911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äuft ähnlich wie Flash und in allen Brows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es C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AML und 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mnäch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anged Code (C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C#, VB .NET etc. programmier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495680" y="685800"/>
            <a:ext cx="379908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495680" y="685800"/>
            <a:ext cx="379908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86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Orca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ächste Version von Visual Studi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hält nächste Version von C#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ulti-Target Suppo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nsthafter Support für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e CTP noch ohne WPF Desig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ress Editions bleiben er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echnische Verbess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lass”, Common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ta Side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Presentation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O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ression 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8" descr="button-rgb-v4"/>
          <p:cNvPicPr/>
          <p:nvPr/>
        </p:nvPicPr>
        <p:blipFill>
          <a:blip r:embed="rId1"/>
          <a:stretch/>
        </p:blipFill>
        <p:spPr>
          <a:xfrm>
            <a:off x="7238880" y="9144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O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icrosoft Express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duktfamilie für Grafiker und Desig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Bl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Web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-Entwicklungsumgebung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s FrontPage hervorgega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fügbar seit Dezember 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9" descr="standards00_450x253"/>
          <p:cNvPicPr/>
          <p:nvPr/>
        </p:nvPicPr>
        <p:blipFill>
          <a:blip r:embed="rId1"/>
          <a:stretch/>
        </p:blipFill>
        <p:spPr>
          <a:xfrm>
            <a:off x="1600200" y="3200400"/>
            <a:ext cx="59436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Blen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YSIWYG-Editor für XAM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gleichbar mit Adobe Dire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Beta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9" descr="EfficientCollaboration_450x253"/>
          <p:cNvPicPr/>
          <p:nvPr/>
        </p:nvPicPr>
        <p:blipFill>
          <a:blip r:embed="rId1"/>
          <a:stretch/>
        </p:blipFill>
        <p:spPr>
          <a:xfrm>
            <a:off x="1905120" y="3352680"/>
            <a:ext cx="54864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Desig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eint die Vorteile von Vektor- und Pixeltechnik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Expression des ehem. Software-herstellers Creature House (übernommen 2004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ann XAML und PDF produzier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Beta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4" name="Picture 7" descr="InnoVectorDrawing_450x253"/>
          <p:cNvPicPr/>
          <p:nvPr/>
        </p:nvPicPr>
        <p:blipFill>
          <a:blip r:embed="rId1"/>
          <a:stretch/>
        </p:blipFill>
        <p:spPr>
          <a:xfrm>
            <a:off x="1600200" y="3849840"/>
            <a:ext cx="502920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Medi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oftware für Digital Asset Managemen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iView MediaPro (übernommen 2006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Noch keine CT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5" descr="EffortlessOrganization_450x253"/>
          <p:cNvPicPr/>
          <p:nvPr/>
        </p:nvPicPr>
        <p:blipFill>
          <a:blip r:embed="rId1"/>
          <a:stretch/>
        </p:blipFill>
        <p:spPr>
          <a:xfrm>
            <a:off x="1371600" y="3440160"/>
            <a:ext cx="54864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www.seewindowsvista.com/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blogs.msdn.com/davbosch/archive/2007/02/14/nice-list-of-demo-able-wpf-applications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 / Diskuss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0440" y="15408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emibold"/>
              </a:rPr>
              <a:t>Windows Vista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as größte je dagewesene Windows-Releas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187440" y="32623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263240" y="1960560"/>
            <a:ext cx="2582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Network Access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85640" y="3162240"/>
            <a:ext cx="2656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Network Location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87480" y="2854440"/>
            <a:ext cx="246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High Resolution/High D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529160" y="593100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Side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630880" y="4119480"/>
            <a:ext cx="3380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Vista Display Drive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315040" y="3341520"/>
            <a:ext cx="1587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eople Near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033880" y="5411880"/>
            <a:ext cx="186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Def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050200" y="3602160"/>
            <a:ext cx="198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918920" y="3693960"/>
            <a:ext cx="107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Live I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7405560" y="1830240"/>
            <a:ext cx="171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Side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7469640" y="2595600"/>
            <a:ext cx="174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arental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678560" y="1890720"/>
            <a:ext cx="265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Feedback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658760" y="4627440"/>
            <a:ext cx="253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Desktop Window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5181120" y="3097080"/>
            <a:ext cx="3266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gistry/File System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75760" y="2529000"/>
            <a:ext cx="181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rotected Mo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5230800" y="3627360"/>
            <a:ext cx="266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Service Hard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3504600" y="1752480"/>
            <a:ext cx="123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Sync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018240" y="1544760"/>
            <a:ext cx="60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A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200320" y="2550960"/>
            <a:ext cx="211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resentation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327960" y="3994200"/>
            <a:ext cx="138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Preview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57000" y="1617840"/>
            <a:ext cx="23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ser Account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-70200" y="2220840"/>
            <a:ext cx="249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Ad-hoc Meeting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990480" y="3395520"/>
            <a:ext cx="134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Quick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392360" y="2511360"/>
            <a:ext cx="2484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Imaging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2972520" y="4386240"/>
            <a:ext cx="283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Resourc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8259840" y="297180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MC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2626920" y="2916360"/>
            <a:ext cx="148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ancelab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224880" y="6126120"/>
            <a:ext cx="3123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source Exhaustion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5045400" y="3916440"/>
            <a:ext cx="295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eer Name Resolu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7003440" y="2351160"/>
            <a:ext cx="140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Reading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105120" y="6515280"/>
            <a:ext cx="250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Disk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6"/>
          <p:cNvSpPr/>
          <p:nvPr/>
        </p:nvSpPr>
        <p:spPr>
          <a:xfrm>
            <a:off x="6047280" y="1620720"/>
            <a:ext cx="168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star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5798520" y="4238640"/>
            <a:ext cx="219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Transactional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1926720" y="3398760"/>
            <a:ext cx="134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ingle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2845800" y="4708440"/>
            <a:ext cx="200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emory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7051680" y="4681440"/>
            <a:ext cx="2149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tartup Repair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6426360" y="5821200"/>
            <a:ext cx="245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Transactional 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2"/>
          <p:cNvSpPr/>
          <p:nvPr/>
        </p:nvSpPr>
        <p:spPr>
          <a:xfrm>
            <a:off x="413280" y="5956200"/>
            <a:ext cx="2897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Eventing an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4164480" y="14940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S-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3792600" y="5583240"/>
            <a:ext cx="96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Info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2976480" y="3843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uper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6746760" y="5580000"/>
            <a:ext cx="1413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egoe UI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5936400" y="5165640"/>
            <a:ext cx="73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Flip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6825600" y="6081840"/>
            <a:ext cx="146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New Explor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9"/>
          <p:cNvSpPr/>
          <p:nvPr/>
        </p:nvSpPr>
        <p:spPr>
          <a:xfrm>
            <a:off x="1036080" y="4500720"/>
            <a:ext cx="19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Taskbar Thumb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0"/>
          <p:cNvSpPr/>
          <p:nvPr/>
        </p:nvSpPr>
        <p:spPr>
          <a:xfrm>
            <a:off x="8370000" y="3311640"/>
            <a:ext cx="57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1"/>
          <p:cNvSpPr/>
          <p:nvPr/>
        </p:nvSpPr>
        <p:spPr>
          <a:xfrm>
            <a:off x="3671280" y="588636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XA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2"/>
          <p:cNvSpPr/>
          <p:nvPr/>
        </p:nvSpPr>
        <p:spPr>
          <a:xfrm>
            <a:off x="7190280" y="4437000"/>
            <a:ext cx="148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egoe Semibold"/>
              </a:rPr>
              <a:t>Search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3"/>
          <p:cNvSpPr/>
          <p:nvPr/>
        </p:nvSpPr>
        <p:spPr>
          <a:xfrm>
            <a:off x="6709320" y="2119320"/>
            <a:ext cx="126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Ink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4"/>
          <p:cNvSpPr/>
          <p:nvPr/>
        </p:nvSpPr>
        <p:spPr>
          <a:xfrm>
            <a:off x="7893720" y="4071960"/>
            <a:ext cx="126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plit 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5"/>
          <p:cNvSpPr/>
          <p:nvPr/>
        </p:nvSpPr>
        <p:spPr>
          <a:xfrm>
            <a:off x="-108720" y="5492880"/>
            <a:ext cx="2724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andatory Integrit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6"/>
          <p:cNvSpPr/>
          <p:nvPr/>
        </p:nvSpPr>
        <p:spPr>
          <a:xfrm>
            <a:off x="6990120" y="6392880"/>
            <a:ext cx="205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I Privileg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7"/>
          <p:cNvSpPr/>
          <p:nvPr/>
        </p:nvSpPr>
        <p:spPr>
          <a:xfrm>
            <a:off x="2395440" y="2316240"/>
            <a:ext cx="150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ecure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3352320" y="5040360"/>
            <a:ext cx="262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Filtering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9"/>
          <p:cNvSpPr/>
          <p:nvPr/>
        </p:nvSpPr>
        <p:spPr>
          <a:xfrm>
            <a:off x="222480" y="4761000"/>
            <a:ext cx="280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ser Mode Driv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0"/>
          <p:cNvSpPr/>
          <p:nvPr/>
        </p:nvSpPr>
        <p:spPr>
          <a:xfrm>
            <a:off x="1325160" y="5711760"/>
            <a:ext cx="230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New Open/Save Di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1"/>
          <p:cNvSpPr/>
          <p:nvPr/>
        </p:nvSpPr>
        <p:spPr>
          <a:xfrm>
            <a:off x="-32040" y="3513240"/>
            <a:ext cx="213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hell Proper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2"/>
          <p:cNvSpPr/>
          <p:nvPr/>
        </p:nvSpPr>
        <p:spPr>
          <a:xfrm>
            <a:off x="365760" y="4264200"/>
            <a:ext cx="241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logon Re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3"/>
          <p:cNvSpPr/>
          <p:nvPr/>
        </p:nvSpPr>
        <p:spPr>
          <a:xfrm>
            <a:off x="4961160" y="2798640"/>
            <a:ext cx="3530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Communic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4"/>
          <p:cNvSpPr/>
          <p:nvPr/>
        </p:nvSpPr>
        <p:spPr>
          <a:xfrm>
            <a:off x="3618000" y="2168640"/>
            <a:ext cx="326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Present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5"/>
          <p:cNvSpPr/>
          <p:nvPr/>
        </p:nvSpPr>
        <p:spPr>
          <a:xfrm>
            <a:off x="2222280" y="3898800"/>
            <a:ext cx="65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6"/>
          <p:cNvSpPr/>
          <p:nvPr/>
        </p:nvSpPr>
        <p:spPr>
          <a:xfrm>
            <a:off x="2556720" y="5308560"/>
            <a:ext cx="264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Open Packag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7"/>
          <p:cNvSpPr/>
          <p:nvPr/>
        </p:nvSpPr>
        <p:spPr>
          <a:xfrm>
            <a:off x="53640" y="6208560"/>
            <a:ext cx="2326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XML Paper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8"/>
          <p:cNvSpPr/>
          <p:nvPr/>
        </p:nvSpPr>
        <p:spPr>
          <a:xfrm>
            <a:off x="5758200" y="4919760"/>
            <a:ext cx="296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Workflow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9"/>
          <p:cNvSpPr/>
          <p:nvPr/>
        </p:nvSpPr>
        <p:spPr>
          <a:xfrm>
            <a:off x="403560" y="5211720"/>
            <a:ext cx="2096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Installer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0"/>
          <p:cNvSpPr/>
          <p:nvPr/>
        </p:nvSpPr>
        <p:spPr>
          <a:xfrm>
            <a:off x="217800" y="1905120"/>
            <a:ext cx="117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owerSh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1"/>
          <p:cNvSpPr/>
          <p:nvPr/>
        </p:nvSpPr>
        <p:spPr>
          <a:xfrm>
            <a:off x="7836480" y="5361120"/>
            <a:ext cx="132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RSS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2"/>
          <p:cNvSpPr/>
          <p:nvPr/>
        </p:nvSpPr>
        <p:spPr>
          <a:xfrm>
            <a:off x="1231200" y="4941720"/>
            <a:ext cx="223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Function Discovery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3"/>
          <p:cNvSpPr/>
          <p:nvPr/>
        </p:nvSpPr>
        <p:spPr>
          <a:xfrm>
            <a:off x="4772520" y="5668920"/>
            <a:ext cx="186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zard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4"/>
          <p:cNvSpPr/>
          <p:nvPr/>
        </p:nvSpPr>
        <p:spPr>
          <a:xfrm>
            <a:off x="-21240" y="3757680"/>
            <a:ext cx="23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rypto Nex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5"/>
          <p:cNvSpPr/>
          <p:nvPr/>
        </p:nvSpPr>
        <p:spPr>
          <a:xfrm>
            <a:off x="6905880" y="5145120"/>
            <a:ext cx="200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redential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Form 954370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2113200" cy="96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8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4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2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4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6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2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4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6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2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6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8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2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4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8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2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4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8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2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4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6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8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2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4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2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4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22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4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6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2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4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8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2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braucht der Entwickl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rvice Pack 1 mit Vista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chtig: MSDN Hilfe von Ok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6.0 SDK (DVD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hält die Hilfe zu WPF, WF, W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rcas Tools für 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vember 2006 CTP (kein weiteres C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ckage für W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ckage für 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ist bereits enthalten (nur einschal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Glas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ch keine .NET Kapselung für Vista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[DllImport] selber mac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eatures nur in Vista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Klassen erst mit Visual Studio O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dows Vista User Interfa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ue Common Controls (comctl32.dll 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mmand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sk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ramework für Wi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taBridge” leider (noch) nicht brauch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eue Common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„Gadg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ML und Jave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Windows Vista Desktop with Windows Sidebar and gadgets"/>
          <p:cNvPicPr/>
          <p:nvPr/>
        </p:nvPicPr>
        <p:blipFill>
          <a:blip r:embed="rId1"/>
          <a:stretch/>
        </p:blipFill>
        <p:spPr>
          <a:xfrm>
            <a:off x="1523880" y="2895480"/>
            <a:ext cx="58294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land Weigelt</cp:lastModifiedBy>
  <dcterms:modified xsi:type="dcterms:W3CDTF">2007-03-01T21:12:0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