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C59D-573D-4ECE-83C3-06EFE7B23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E8A2-E650-459E-8A14-A68AEF0A1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BA45-0FB5-4125-B830-219B94B92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2B14-F623-4D07-B0FB-89788D1EF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28FC-7C8C-43B5-9AF3-A06A01BD4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0222-805B-469C-BFC7-BE74E8340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AE79-2FD1-4129-9AB7-7C274C3ED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7C6C-2B58-4E41-A456-DBAAD0982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C634-2EEE-4B96-BB8A-66809971C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987A-2A50-4B49-99A4-0349F67FF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6DAE-C7D5-4E37-BF8C-6255A2876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2A89-2F80-4D1B-9491-795D0BE3D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8947-D897-448E-951C-700813871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B2BC-B2ED-4DEF-9415-211B43CAC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D620-12E9-44DD-98A5-360725744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D5909-06BD-482B-9E11-E7DD689D3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FF5A-7560-4DB4-9611-091846B00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0C9F8-FFCB-485C-8710-DAA26C79C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E072-B0E0-4DBE-89FB-22CDEF55E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2F8D-D158-4EC2-8A74-5C742FBD3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4330-69F9-44CC-BA80-85F2DF06E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81DF-E41D-48C7-8E7A-79F81A9ED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8025A-08B0-45CB-A68E-92519B891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570C-A1B6-428F-A74E-FA5AB1B68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2B9C-69E7-4E98-9739-BDC79C416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D76B-0F77-4EAE-8F17-65DE338D8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F583-E12A-4DC6-8750-A11C8497A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erhard.Schlemm@comma-soft.co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crosoft.com/technet/scriptcenter/hubs/msh.mspx" TargetMode="External"/><Relationship Id="rId2" Type="http://schemas.openxmlformats.org/officeDocument/2006/relationships/hyperlink" Target="http://www.microsoft.com/downloads/details.aspx?FamilyID=B4720B00-9A66-430F-BD56-EC48BFCA154F&amp;displaylang=en" TargetMode="External"/><Relationship Id="rId3" Type="http://schemas.openxmlformats.org/officeDocument/2006/relationships/hyperlink" Target="http://msdn2.microsoft.com/en-us/library/bb246658.aspx" TargetMode="External"/><Relationship Id="rId4" Type="http://schemas.openxmlformats.org/officeDocument/2006/relationships/hyperlink" Target="http://thepowershellguy.com/blogs/posh/archive/2007/01/13/powershell-projects-on-codeplex.aspx" TargetMode="External"/><Relationship Id="rId5" Type="http://schemas.openxmlformats.org/officeDocument/2006/relationships/hyperlink" Target="http://www.codeplex.com/PSSharePoint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1642680"/>
            <a:ext cx="8713800" cy="216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9200"/>
                </a:solidFill>
                <a:latin typeface="Verdana"/>
              </a:rPr>
              <a:t>Scripting for the .NET generation</a:t>
            </a:r>
            <a:br>
              <a:rPr sz="2400"/>
            </a:br>
            <a:br>
              <a:rPr sz="3600"/>
            </a:br>
            <a:r>
              <a:rPr b="1" lang="de-DE" sz="4000" spc="-1" strike="noStrike">
                <a:solidFill>
                  <a:srgbClr val="f69200"/>
                </a:solidFill>
                <a:latin typeface="Verdana"/>
              </a:rPr>
              <a:t>Windows PowerShell</a:t>
            </a:r>
            <a:endParaRPr b="1" lang="en-US" sz="40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562640"/>
            <a:ext cx="6400800" cy="13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01.2007 –  Gerhard Schlem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5951520"/>
            <a:ext cx="50007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Gerhard.Schlemm@comma-sof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ritisch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un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ange Startup-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erformance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keine Mess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ost-Kons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"Toleranz" bezüglich Parametern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ab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erfügbarkei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ndows XP, Windows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ehe Windows PowerShell Script Center-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icht mit Windows 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lease-Zyklen wurden entkopp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rd nachgereic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rd demnächst mit  diversen Microsoft-Produkten ausgelief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change Serv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ystem Center VM Manager, Operations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azi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ut durchdacht, "moderne" Fortentwicklung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r Shell in einer objektorientierten W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ckt Anwendungsfä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ür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dministrato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ür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ntwickl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und ist damit gut geeignet, auf Shell-Ebene Software-Produkte zu unterstü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Grafik 3" descr="Architektur.gif"/>
          <p:cNvPicPr/>
          <p:nvPr/>
        </p:nvPicPr>
        <p:blipFill>
          <a:blip r:embed="rId1"/>
          <a:stretch/>
        </p:blipFill>
        <p:spPr>
          <a:xfrm>
            <a:off x="928800" y="1576440"/>
            <a:ext cx="7500960" cy="4618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Übersich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 (1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ndows PowerShell Script Center</a:t>
            </a:r>
            <a:br>
              <a:rPr sz="2400"/>
            </a:br>
            <a:r>
              <a:rPr b="0" lang="de-DE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microsoft.com/technet/scriptcenter/hubs/msh.mspx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owerShell Documentation Pack </a:t>
            </a:r>
            <a:r>
              <a:rPr b="0" lang="de-DE" sz="16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www.microsoft.com/downloads/details.aspx?FamilyID=B4720B00-9A66-430F-BD56-EC48BFCA154F&amp;displaylang=e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SDN</a:t>
            </a:r>
            <a:br>
              <a:rPr sz="2400"/>
            </a:br>
            <a:r>
              <a:rPr b="0" lang="de-DE" sz="16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msdn2.microsoft.com/en-us/library/bb246658.aspx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owerShell bei CodePlex</a:t>
            </a:r>
            <a:br>
              <a:rPr sz="2400"/>
            </a:b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http://thepowershellguy.com/blogs/posh/archive/2007/01/13/powershell-projects-on-codeplex.aspx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harePoint 2003:</a:t>
            </a:r>
            <a:br>
              <a:rPr sz="1800"/>
            </a:b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http://www.codeplex.com/PSSharePoin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PowerShell Community Extensions: http://www.codeplex.com/PowerShellCX/Release/ProjectReleases.aspx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 (2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ndows SDK</a:t>
            </a:r>
            <a:br>
              <a:rPr sz="24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http://www.microsoft.com/downloads/details.aspx?FamilyId=C2B1E300-F358-4523-B479-F53D234CDCCF&amp;displaylang=en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Etliche Samples in Samples\SysMgmt\WindowsPowerSh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ual Studio Project Template</a:t>
            </a:r>
            <a:br>
              <a:rPr sz="24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http://channel9.msdn.com/ShowPost.aspx?PostID=256835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logs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http://blogs.msdn.com/powershell/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http://thepowershellguy.com/blogs/posh/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00240"/>
            <a:ext cx="822960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ragen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ist PowerShell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levator Pitch: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"Scripting for the .NET Generation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ieht zunächst wie eine normale Shell aus,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st aber konsequent auf .NET 2.0 basie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cripting findet stets auf echten .NET-Objekten statt - der Umgang mit diesen Objekten steht dem in kompilierten Code kaum n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llte etwas wie ein Text aussehen: Es ist ein Objekt vom Typ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System.String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auf dem alle Methoden und Eigenschaften zur Verfügung ste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Grafik 3" descr="picture_2_9.png"/>
          <p:cNvPicPr/>
          <p:nvPr/>
        </p:nvPicPr>
        <p:blipFill>
          <a:blip r:embed="rId1"/>
          <a:stretch/>
        </p:blipFill>
        <p:spPr>
          <a:xfrm>
            <a:off x="7151760" y="1488960"/>
            <a:ext cx="113652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I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ipelining von .NET Objek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hells aus der Unix-Welt nehmen Pipelining auf Basis von Texten vor, wodurch "externe" Tools wie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SED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AWK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etc. entstand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owerShell verbindet dieses Pipeline-Prinzip mit objektorientierter Entwick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m Lieferumfang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mfangreicher Satz von Befehlen (Cmdlets), die Pipelining unterstüz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II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ch das ist notwendig: PowerShel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ächtig im Umf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beiten mit Funktionen und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cing und Debugging mög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akt in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lativ schlecht erlern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für gibt es Anwendungsfälle, als Entwickler möchte ich für mein Produkt (Administration, Verwendung) jedoch keine Skripte entwickeln, sonder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mpon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III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md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 .NET-Komponenten gegossene Befehle,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 Pipelining unterstü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nsistente Benen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men von Cmdlets folgen Verb-Noun Prin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men von häufigen Parametern standardisie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6560" indent="-264960">
              <a:lnSpc>
                <a:spcPct val="100000"/>
              </a:lnSpc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Verbose , Debug, ErrorAction, ErrorVariable, OutVariable, OutBuffer,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hat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Conf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365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he 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et-help about_common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hen auch in der PowerShell Language ber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icht erlernb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IV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ktion des Zugriffs auf hierarchische Datenspei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heitlicher Zugriff auf diese Daten üb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tgelieferte Cmdlets (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et-ChildIt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gebaut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77560">
              <a:lnSpc>
                <a:spcPct val="10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eisystem (File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77560">
              <a:lnSpc>
                <a:spcPct val="10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istry (Regis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77560">
              <a:lnSpc>
                <a:spcPct val="10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Lokale) Zertifikate (C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77560">
              <a:lnSpc>
                <a:spcPct val="10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werShell-interne Provid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as, Environment, Function,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V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usammenspiel Cmdlet-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mdlets können Provider-Abstraktion verwenden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m auf Daten zuzugrei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infache Erweiterbar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twicklung eigener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mdlet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sehr einf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twicklung eigener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vid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einf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 und natürlich auch durch Definition von Funktionen mit der PowerShel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VI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rchitektur: Runtime und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urch saubere Trennung von Runtime und Host ist PowerShell nicht nur eine Konsole, sondern kann innerhalb anderer Anwendungen eingesetz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npassbar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lias-Konzept für "gewohnte" Befehls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 Ausgabeform (Tabelle, Liste, ...) können anzuzeigenden Eigenschaften ausgewählt und auch Werteformatierung eingestell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oreinstellung per Konfigurationsda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VII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icherheitskonz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ilfe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ilfe für Komponenten (Cmdlets und Provider) werden im MAML-Format ausgeliefert und/oder im Code annot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ost-Kons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passbar (Titel, Prompt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"Toleranz" bezüglich Parametern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abExpansion für Provider-Pfade, Cmdlets (ab "-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Schlemm, Gerhard</cp:lastModifiedBy>
  <dcterms:modified xsi:type="dcterms:W3CDTF">2007-01-23T08:57:10Z</dcterms:modified>
  <cp:revision>589</cp:revision>
  <dc:subject/>
  <dc:title>Slide 1</dc:title>
</cp:coreProperties>
</file>